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33296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006-441D-43E5-BED1-2A836974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F10-C50F-4718-80AD-2FDCBA46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137-350B-4FB9-ABDB-FB5202F1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9FF-A2EE-4013-88B3-00F1C252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4FC-D3E7-4446-ADB5-4BF8BA73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BEB-64D5-4FE9-9548-1F42F9EF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52E-7408-4301-BFC0-4E0E8C8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DCD-6F09-46B0-A2CF-B6F8D6E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972-5BD7-4E32-B526-0E1F25EF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33296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5CD-0D4C-40D1-A411-75D206FE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4A7-2E9B-492B-8205-658C4719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7CA-DBF0-49E5-9A97-B22863BA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724280" y="655308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Times New Roman"/>
              </a:rPr>
              <a:t>Workshop on M&amp;S at IT IS, 9-10 October,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5530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Rassul Ayani, KTH and FO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62520" y="6629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14800" y="6553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EC2-A528-4EFC-BD51-7CAA6F57F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99B0-B0A5-49F9-9CCC-2B665946DB1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6102-29FF-4146-8C65-42FCE1787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ssul.ayani@imit.kth.se" TargetMode="External"/><Relationship Id="rId2" Type="http://schemas.openxmlformats.org/officeDocument/2006/relationships/hyperlink" Target="mailto:rassul.ayani@imit.kth.se" TargetMode="External"/><Relationship Id="rId3" Type="http://schemas.openxmlformats.org/officeDocument/2006/relationships/hyperlink" Target="mailto:rassul.ayani@imit.kth.se" TargetMode="External"/><Relationship Id="rId4" Type="http://schemas.openxmlformats.org/officeDocument/2006/relationships/hyperlink" Target="mailto:rassul.ayani@imit.kth.se" TargetMode="External"/><Relationship Id="rId5" Type="http://schemas.openxmlformats.org/officeDocument/2006/relationships/hyperlink" Target="mailto:rassul.ayani@imit.kth.se" TargetMode="External"/><Relationship Id="rId6" Type="http://schemas.openxmlformats.org/officeDocument/2006/relationships/hyperlink" Target="mailto:rassul.ayani@imit.kth.se" TargetMode="External"/><Relationship Id="rId7" Type="http://schemas.openxmlformats.org/officeDocument/2006/relationships/hyperlink" Target="mailto:rassul.ayani@imit.kth.se" TargetMode="External"/><Relationship Id="rId8" Type="http://schemas.openxmlformats.org/officeDocument/2006/relationships/hyperlink" Target="mailto:rassul.ayani@imit.kth.se" TargetMode="External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et-based </a:t>
            </a:r>
            <a:r>
              <a:rPr b="1" lang="sv-SE" sz="3600" spc="-1" strike="noStrike">
                <a:solidFill>
                  <a:srgbClr val="ffff66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odelling and </a:t>
            </a:r>
            <a:r>
              <a:rPr b="1" lang="sv-SE" sz="3600" spc="-1" strike="noStrike">
                <a:solidFill>
                  <a:srgbClr val="ffff66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mulation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(NetMaS)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2437920"/>
            <a:ext cx="7772400" cy="37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assul Ayani,  Professor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Kungl Tekniska Högskolan (KTH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nd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arshad Moradi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w</a:t>
            </a:r>
            <a:r>
              <a:rPr b="1" lang="sv-SE" sz="20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sh Defence Research Agency (FOI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ockholm, Swede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URL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it.kth.se/~rassu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mail: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assul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.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ayani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@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imit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.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kth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.s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as been successfully employed in different industries for a long tim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anufacturing industries, Toy industries (lego), ..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oftware industr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bject-oriented software develop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&amp;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veloping small specialized models that can interact instead of building large stand-alone monolithic simulation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Reus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pecialized reusable sub-models that can interact raises the issue of interoperabilit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eed for a standardized communication interfac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igh Level Architecture (HLA)?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ther candidate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Times New Roman"/>
              </a:rPr>
              <a:t>Component-based M&amp;S using HLA </a:t>
            </a:r>
            <a:endParaRPr b="0" lang="en-US" sz="40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66680" y="2438280"/>
            <a:ext cx="7086600" cy="3350880"/>
            <a:chOff x="1066680" y="2438280"/>
            <a:chExt cx="7086600" cy="3350880"/>
          </a:xfrm>
        </p:grpSpPr>
        <p:grpSp>
          <p:nvGrpSpPr>
            <p:cNvPr id="133" name=""/>
            <p:cNvGrpSpPr/>
            <p:nvPr/>
          </p:nvGrpSpPr>
          <p:grpSpPr>
            <a:xfrm>
              <a:off x="6156360" y="2438280"/>
              <a:ext cx="1461600" cy="1358280"/>
              <a:chOff x="6156360" y="2438280"/>
              <a:chExt cx="1461600" cy="135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6156360" y="2438280"/>
                <a:ext cx="1327680" cy="122148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23320" y="2506680"/>
                <a:ext cx="1327680" cy="122112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90280" y="2575080"/>
                <a:ext cx="1327680" cy="122148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745080" y="2438280"/>
              <a:ext cx="1461600" cy="1358280"/>
              <a:chOff x="3745080" y="2438280"/>
              <a:chExt cx="1461600" cy="1358280"/>
            </a:xfrm>
          </p:grpSpPr>
          <p:sp>
            <p:nvSpPr>
              <p:cNvPr id="138" name=""/>
              <p:cNvSpPr/>
              <p:nvPr/>
            </p:nvSpPr>
            <p:spPr>
              <a:xfrm>
                <a:off x="3745080" y="2438280"/>
                <a:ext cx="1327680" cy="12214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12040" y="2506680"/>
                <a:ext cx="1327680" cy="12211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79000" y="2575080"/>
                <a:ext cx="1327680" cy="12214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268280" y="2438280"/>
              <a:ext cx="1460160" cy="1358280"/>
              <a:chOff x="1268280" y="2438280"/>
              <a:chExt cx="1460160" cy="135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268280" y="2438280"/>
                <a:ext cx="1326600" cy="1221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34880" y="2506680"/>
                <a:ext cx="1326600" cy="122112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1840" y="2575080"/>
                <a:ext cx="1326600" cy="1221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066680" y="4973400"/>
              <a:ext cx="7086600" cy="809640"/>
            </a:xfrm>
            <a:prstGeom prst="roundRect">
              <a:avLst>
                <a:gd name="adj" fmla="val 12495"/>
              </a:avLst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3803400"/>
              <a:ext cx="0" cy="11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20000" y="3803400"/>
              <a:ext cx="0" cy="11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10160" y="3803400"/>
              <a:ext cx="0" cy="11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0800" y="2742840"/>
              <a:ext cx="12193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 liv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mul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4040" y="2971440"/>
              <a:ext cx="1236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mul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2819160"/>
              <a:ext cx="895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4946400"/>
              <a:ext cx="3568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untime Infrastructure (RTI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5240160"/>
              <a:ext cx="698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deration Management   Declaration Management    Object Manage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 Management            Ownership Management     Data Distribution Manag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HLA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common framework for connecting models and simulations on different aggregation levels and time-scale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Aims to facilitate interoperability and reus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joint simulation exercise in HLA is called 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feder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rticipating simulation models are called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 federat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untime Infrastructure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 (RTI)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s a distributed operating system that provides a set of basic services to the federat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Times New Roman"/>
              </a:rPr>
              <a:t>Component-based M&amp;S using HLA </a:t>
            </a:r>
            <a:endParaRPr b="0" lang="en-US" sz="4000" spc="-1" strike="noStrike">
              <a:solidFill>
                <a:srgbClr val="ff99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62120" y="2209680"/>
            <a:ext cx="8064360" cy="4149720"/>
            <a:chOff x="762120" y="2209680"/>
            <a:chExt cx="8064360" cy="4149720"/>
          </a:xfrm>
        </p:grpSpPr>
        <p:sp>
          <p:nvSpPr>
            <p:cNvPr id="158" name="server"/>
            <p:cNvSpPr/>
            <p:nvPr/>
          </p:nvSpPr>
          <p:spPr>
            <a:xfrm>
              <a:off x="4256640" y="4906800"/>
              <a:ext cx="1074960" cy="664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server"/>
            <p:cNvSpPr/>
            <p:nvPr/>
          </p:nvSpPr>
          <p:spPr>
            <a:xfrm>
              <a:off x="2106000" y="4906800"/>
              <a:ext cx="1074960" cy="664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aptop"/>
            <p:cNvSpPr/>
            <p:nvPr/>
          </p:nvSpPr>
          <p:spPr>
            <a:xfrm>
              <a:off x="4256640" y="2209680"/>
              <a:ext cx="1047960" cy="465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computr2"/>
            <p:cNvSpPr/>
            <p:nvPr/>
          </p:nvSpPr>
          <p:spPr>
            <a:xfrm>
              <a:off x="5869440" y="2417040"/>
              <a:ext cx="1074960" cy="62208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computr4"/>
            <p:cNvSpPr/>
            <p:nvPr/>
          </p:nvSpPr>
          <p:spPr>
            <a:xfrm>
              <a:off x="2858760" y="2409120"/>
              <a:ext cx="618120" cy="5324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computr3"/>
            <p:cNvSpPr/>
            <p:nvPr/>
          </p:nvSpPr>
          <p:spPr>
            <a:xfrm>
              <a:off x="1138320" y="2874600"/>
              <a:ext cx="1048320" cy="466560"/>
            </a:xfrm>
            <a:prstGeom prst="pi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computr1"/>
            <p:cNvSpPr/>
            <p:nvPr/>
          </p:nvSpPr>
          <p:spPr>
            <a:xfrm>
              <a:off x="7697520" y="2874600"/>
              <a:ext cx="725760" cy="532440"/>
            </a:xfrm>
            <a:prstGeom prst="pi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server"/>
            <p:cNvSpPr/>
            <p:nvPr/>
          </p:nvSpPr>
          <p:spPr>
            <a:xfrm>
              <a:off x="6407280" y="4906800"/>
              <a:ext cx="1074960" cy="664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3869280"/>
              <a:ext cx="8064360" cy="414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N/W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37080" y="3247200"/>
              <a:ext cx="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1320" y="2941560"/>
              <a:ext cx="0" cy="9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94120" y="2675160"/>
              <a:ext cx="0" cy="119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7280" y="3039480"/>
              <a:ext cx="0" cy="82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20080" y="340740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43480" y="428436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94120" y="428436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44760" y="428436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74560" y="5944320"/>
              <a:ext cx="4838760" cy="415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T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2400" y="5529240"/>
              <a:ext cx="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94120" y="5529240"/>
              <a:ext cx="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2400" y="5552280"/>
              <a:ext cx="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9D9-CC14-4A8B-B14D-4357B23EB2C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DDBED-47D8-490E-84CA-95F1B33F61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Component-based M&amp;S using HLA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odel Development and Component-based Architectur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odel Development and Component-based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8954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7120" y="2971800"/>
            <a:ext cx="7936920" cy="3200400"/>
            <a:chOff x="537120" y="2971800"/>
            <a:chExt cx="7936920" cy="3200400"/>
          </a:xfrm>
        </p:grpSpPr>
        <p:grpSp>
          <p:nvGrpSpPr>
            <p:cNvPr id="184" name=""/>
            <p:cNvGrpSpPr/>
            <p:nvPr/>
          </p:nvGrpSpPr>
          <p:grpSpPr>
            <a:xfrm>
              <a:off x="537120" y="3657600"/>
              <a:ext cx="7936920" cy="1766880"/>
              <a:chOff x="537120" y="3657600"/>
              <a:chExt cx="7936920" cy="17668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549360" y="4586040"/>
                <a:ext cx="761760" cy="457200"/>
                <a:chOff x="549360" y="4586040"/>
                <a:chExt cx="761760" cy="457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49360" y="4586040"/>
                  <a:ext cx="761760" cy="457200"/>
                </a:xfrm>
                <a:prstGeom prst="rect">
                  <a:avLst/>
                </a:prstGeom>
                <a:solidFill>
                  <a:srgbClr val="cbcbcb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49360" y="4586040"/>
                  <a:ext cx="761760" cy="4572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539720" y="4281480"/>
                <a:ext cx="1371600" cy="914400"/>
                <a:chOff x="1539720" y="4281480"/>
                <a:chExt cx="1371600" cy="9144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539720" y="4281480"/>
                  <a:ext cx="1371600" cy="914400"/>
                </a:xfrm>
                <a:prstGeom prst="cube">
                  <a:avLst>
                    <a:gd name="adj" fmla="val 11287"/>
                  </a:avLst>
                </a:prstGeom>
                <a:solidFill>
                  <a:srgbClr val="0066cc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1768320" y="4586040"/>
                  <a:ext cx="761760" cy="457200"/>
                  <a:chOff x="1768320" y="4586040"/>
                  <a:chExt cx="761760" cy="457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1768320" y="4586040"/>
                    <a:ext cx="761760" cy="457200"/>
                  </a:xfrm>
                  <a:prstGeom prst="rect">
                    <a:avLst/>
                  </a:prstGeom>
                  <a:solidFill>
                    <a:srgbClr val="cbcbcb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768320" y="4586040"/>
                    <a:ext cx="761760" cy="45720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3063960" y="4281480"/>
                <a:ext cx="1371600" cy="914400"/>
                <a:chOff x="3063960" y="4281480"/>
                <a:chExt cx="1371600" cy="9144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063960" y="4281480"/>
                  <a:ext cx="1371600" cy="914400"/>
                </a:xfrm>
                <a:prstGeom prst="cube">
                  <a:avLst>
                    <a:gd name="adj" fmla="val 11287"/>
                  </a:avLst>
                </a:prstGeom>
                <a:solidFill>
                  <a:srgbClr val="ff7c8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3140280" y="4433760"/>
                  <a:ext cx="533520" cy="380880"/>
                  <a:chOff x="3140280" y="4433760"/>
                  <a:chExt cx="533520" cy="3808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140280" y="4433760"/>
                    <a:ext cx="53352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0066cc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229200" y="4560480"/>
                    <a:ext cx="296280" cy="190440"/>
                    <a:chOff x="3229200" y="4560480"/>
                    <a:chExt cx="296280" cy="19044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229200" y="4560480"/>
                      <a:ext cx="296280" cy="190440"/>
                    </a:xfrm>
                    <a:prstGeom prst="rect">
                      <a:avLst/>
                    </a:prstGeom>
                    <a:solidFill>
                      <a:srgbClr val="cbcbcb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229200" y="4560480"/>
                      <a:ext cx="296280" cy="19044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749760" y="4738680"/>
                  <a:ext cx="533520" cy="380880"/>
                  <a:chOff x="3749760" y="4738680"/>
                  <a:chExt cx="533520" cy="380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749760" y="4738680"/>
                    <a:ext cx="53352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0066cc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3838680" y="4865400"/>
                    <a:ext cx="296280" cy="190440"/>
                    <a:chOff x="3838680" y="4865400"/>
                    <a:chExt cx="296280" cy="19044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3838680" y="4865400"/>
                      <a:ext cx="296280" cy="190440"/>
                    </a:xfrm>
                    <a:prstGeom prst="rect">
                      <a:avLst/>
                    </a:prstGeom>
                    <a:solidFill>
                      <a:srgbClr val="cbcbcb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3838680" y="4865400"/>
                      <a:ext cx="296280" cy="19044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5197320" y="4281480"/>
                <a:ext cx="1371600" cy="914400"/>
                <a:chOff x="5197320" y="4281480"/>
                <a:chExt cx="1371600" cy="9144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197320" y="4281480"/>
                  <a:ext cx="1371600" cy="914400"/>
                </a:xfrm>
                <a:prstGeom prst="cube">
                  <a:avLst>
                    <a:gd name="adj" fmla="val 11287"/>
                  </a:avLst>
                </a:prstGeom>
                <a:solidFill>
                  <a:srgbClr val="ffff66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5273640" y="4433760"/>
                  <a:ext cx="533520" cy="380880"/>
                  <a:chOff x="5273640" y="4433760"/>
                  <a:chExt cx="533520" cy="3808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5273640" y="4433760"/>
                    <a:ext cx="53352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ff7c8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5303160" y="4497120"/>
                    <a:ext cx="207360" cy="158400"/>
                    <a:chOff x="5303160" y="4497120"/>
                    <a:chExt cx="207360" cy="15840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5303160" y="4497120"/>
                      <a:ext cx="20736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5337720" y="4549680"/>
                      <a:ext cx="115200" cy="79200"/>
                      <a:chOff x="5337720" y="4549680"/>
                      <a:chExt cx="115200" cy="79200"/>
                    </a:xfrm>
                  </p:grpSpPr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5337720" y="4549680"/>
                        <a:ext cx="11520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5337720" y="4549680"/>
                        <a:ext cx="11520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5540400" y="4624200"/>
                    <a:ext cx="207360" cy="158400"/>
                    <a:chOff x="5540400" y="4624200"/>
                    <a:chExt cx="207360" cy="1584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5540400" y="4624200"/>
                      <a:ext cx="20736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5574960" y="4676760"/>
                      <a:ext cx="115200" cy="79200"/>
                      <a:chOff x="5574960" y="4676760"/>
                      <a:chExt cx="115200" cy="7920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5574960" y="4676760"/>
                        <a:ext cx="11520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5574960" y="4676760"/>
                        <a:ext cx="11520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883120" y="4738680"/>
                  <a:ext cx="457200" cy="380880"/>
                  <a:chOff x="5883120" y="4738680"/>
                  <a:chExt cx="457200" cy="38088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883120" y="4738680"/>
                    <a:ext cx="45720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0066cc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959080" y="4865400"/>
                    <a:ext cx="254160" cy="190440"/>
                    <a:chOff x="5959080" y="4865400"/>
                    <a:chExt cx="254160" cy="19044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959080" y="4865400"/>
                      <a:ext cx="254160" cy="190440"/>
                    </a:xfrm>
                    <a:prstGeom prst="rect">
                      <a:avLst/>
                    </a:prstGeom>
                    <a:solidFill>
                      <a:srgbClr val="cbcbcb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959080" y="4865400"/>
                      <a:ext cx="254160" cy="19044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4" name=""/>
              <p:cNvSpPr/>
              <p:nvPr/>
            </p:nvSpPr>
            <p:spPr>
              <a:xfrm>
                <a:off x="4511520" y="4357440"/>
                <a:ext cx="70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7120" y="3657600"/>
                <a:ext cx="762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Object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Component    Composite component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  Federa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Feder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6950160" y="4205160"/>
                <a:ext cx="1523880" cy="1219320"/>
                <a:chOff x="6950160" y="4205160"/>
                <a:chExt cx="1523880" cy="121932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7407360" y="5043240"/>
                  <a:ext cx="533160" cy="381240"/>
                  <a:chOff x="7407360" y="5043240"/>
                  <a:chExt cx="533160" cy="3812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7407360" y="5043240"/>
                    <a:ext cx="533160" cy="38124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ffff66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7436880" y="5106600"/>
                    <a:ext cx="207360" cy="158760"/>
                    <a:chOff x="7436880" y="5106600"/>
                    <a:chExt cx="207360" cy="15876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7436880" y="5106600"/>
                      <a:ext cx="207360" cy="15876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ff7c8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1" name=""/>
                    <p:cNvGrpSpPr/>
                    <p:nvPr/>
                  </p:nvGrpSpPr>
                  <p:grpSpPr>
                    <a:xfrm>
                      <a:off x="7448400" y="5132880"/>
                      <a:ext cx="80640" cy="66240"/>
                      <a:chOff x="7448400" y="5132880"/>
                      <a:chExt cx="80640" cy="66240"/>
                    </a:xfrm>
                  </p:grpSpPr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7448400" y="5132880"/>
                        <a:ext cx="80640" cy="6624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600" bIns="12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3" name=""/>
                      <p:cNvGrpSpPr/>
                      <p:nvPr/>
                    </p:nvGrpSpPr>
                    <p:grpSpPr>
                      <a:xfrm>
                        <a:off x="7461720" y="5154840"/>
                        <a:ext cx="44640" cy="33120"/>
                        <a:chOff x="7461720" y="5154840"/>
                        <a:chExt cx="44640" cy="33120"/>
                      </a:xfrm>
                    </p:grpSpPr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7461720" y="5154840"/>
                          <a:ext cx="44640" cy="3312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3680" bIns="-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7461720" y="5154840"/>
                          <a:ext cx="44640" cy="3312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7540560" y="5185800"/>
                      <a:ext cx="80640" cy="66240"/>
                      <a:chOff x="7540560" y="5185800"/>
                      <a:chExt cx="80640" cy="6624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7540560" y="5185800"/>
                        <a:ext cx="80640" cy="6624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600" bIns="12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8" name=""/>
                      <p:cNvGrpSpPr/>
                      <p:nvPr/>
                    </p:nvGrpSpPr>
                    <p:grpSpPr>
                      <a:xfrm>
                        <a:off x="7553880" y="5207760"/>
                        <a:ext cx="44640" cy="33120"/>
                        <a:chOff x="7553880" y="5207760"/>
                        <a:chExt cx="44640" cy="33120"/>
                      </a:xfrm>
                    </p:grpSpPr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7553880" y="5207760"/>
                          <a:ext cx="44640" cy="3312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3680" bIns="-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7553880" y="5207760"/>
                          <a:ext cx="44640" cy="3312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7673760" y="5233680"/>
                    <a:ext cx="177480" cy="158760"/>
                    <a:chOff x="7673760" y="5233680"/>
                    <a:chExt cx="177480" cy="1587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673760" y="5233680"/>
                      <a:ext cx="177480" cy="15876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7703280" y="5286600"/>
                      <a:ext cx="98640" cy="79200"/>
                      <a:chOff x="7703280" y="5286600"/>
                      <a:chExt cx="98640" cy="7920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7703280" y="5286600"/>
                        <a:ext cx="9864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7703280" y="5286600"/>
                        <a:ext cx="9864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46" name=""/>
                <p:cNvSpPr/>
                <p:nvPr/>
              </p:nvSpPr>
              <p:spPr>
                <a:xfrm flipH="1">
                  <a:off x="7026120" y="4814640"/>
                  <a:ext cx="137160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78760" y="458604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169120" y="458604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7635960" y="48142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7940520" y="4205160"/>
                  <a:ext cx="533520" cy="380880"/>
                  <a:chOff x="7940520" y="4205160"/>
                  <a:chExt cx="533520" cy="380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7940520" y="4205160"/>
                    <a:ext cx="53352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ffff66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7970040" y="4268520"/>
                    <a:ext cx="207360" cy="158400"/>
                    <a:chOff x="7970040" y="4268520"/>
                    <a:chExt cx="207360" cy="15840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7970040" y="4268520"/>
                      <a:ext cx="20736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ff7c8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4" name=""/>
                    <p:cNvGrpSpPr/>
                    <p:nvPr/>
                  </p:nvGrpSpPr>
                  <p:grpSpPr>
                    <a:xfrm>
                      <a:off x="7981560" y="4294800"/>
                      <a:ext cx="80640" cy="65880"/>
                      <a:chOff x="7981560" y="4294800"/>
                      <a:chExt cx="80640" cy="65880"/>
                    </a:xfrm>
                  </p:grpSpPr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7981560" y="4294800"/>
                        <a:ext cx="80640" cy="6588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6" name=""/>
                      <p:cNvGrpSpPr/>
                      <p:nvPr/>
                    </p:nvGrpSpPr>
                    <p:grpSpPr>
                      <a:xfrm>
                        <a:off x="7994880" y="4316760"/>
                        <a:ext cx="44640" cy="32760"/>
                        <a:chOff x="7994880" y="4316760"/>
                        <a:chExt cx="44640" cy="32760"/>
                      </a:xfrm>
                    </p:grpSpPr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7994880" y="4316760"/>
                          <a:ext cx="44640" cy="3276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7994880" y="4316760"/>
                          <a:ext cx="44640" cy="3276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8073720" y="4347720"/>
                      <a:ext cx="80640" cy="65880"/>
                      <a:chOff x="8073720" y="4347720"/>
                      <a:chExt cx="80640" cy="65880"/>
                    </a:xfrm>
                  </p:grpSpPr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8073720" y="4347720"/>
                        <a:ext cx="80640" cy="6588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61" name=""/>
                      <p:cNvGrpSpPr/>
                      <p:nvPr/>
                    </p:nvGrpSpPr>
                    <p:grpSpPr>
                      <a:xfrm>
                        <a:off x="8087040" y="4369680"/>
                        <a:ext cx="44640" cy="32760"/>
                        <a:chOff x="8087040" y="4369680"/>
                        <a:chExt cx="44640" cy="32760"/>
                      </a:xfrm>
                    </p:grpSpPr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8087040" y="4369680"/>
                          <a:ext cx="44640" cy="3276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8087040" y="4369680"/>
                          <a:ext cx="44640" cy="3276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8207280" y="4395600"/>
                    <a:ext cx="177840" cy="158400"/>
                    <a:chOff x="8207280" y="4395600"/>
                    <a:chExt cx="177840" cy="1584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207280" y="4395600"/>
                      <a:ext cx="17784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8236800" y="4448160"/>
                      <a:ext cx="98640" cy="79200"/>
                      <a:chOff x="8236800" y="4448160"/>
                      <a:chExt cx="98640" cy="7920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8236800" y="4448160"/>
                        <a:ext cx="9864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8236800" y="4448160"/>
                        <a:ext cx="9864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6950160" y="4205160"/>
                  <a:ext cx="533160" cy="380880"/>
                  <a:chOff x="6950160" y="4205160"/>
                  <a:chExt cx="533160" cy="380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6950160" y="4205160"/>
                    <a:ext cx="53316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ffff66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6979680" y="4268520"/>
                    <a:ext cx="207360" cy="158400"/>
                    <a:chOff x="6979680" y="4268520"/>
                    <a:chExt cx="207360" cy="15840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6979680" y="4268520"/>
                      <a:ext cx="20736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ff7c8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6991200" y="4294800"/>
                      <a:ext cx="80640" cy="65880"/>
                      <a:chOff x="6991200" y="4294800"/>
                      <a:chExt cx="80640" cy="65880"/>
                    </a:xfrm>
                  </p:grpSpPr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6991200" y="4294800"/>
                        <a:ext cx="80640" cy="6588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5" name=""/>
                      <p:cNvGrpSpPr/>
                      <p:nvPr/>
                    </p:nvGrpSpPr>
                    <p:grpSpPr>
                      <a:xfrm>
                        <a:off x="7004520" y="4316760"/>
                        <a:ext cx="44640" cy="32760"/>
                        <a:chOff x="7004520" y="4316760"/>
                        <a:chExt cx="44640" cy="32760"/>
                      </a:xfrm>
                    </p:grpSpPr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>
                          <a:off x="7004520" y="4316760"/>
                          <a:ext cx="44640" cy="3276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>
                          <a:off x="7004520" y="4316760"/>
                          <a:ext cx="44640" cy="3276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7083360" y="4347720"/>
                      <a:ext cx="80640" cy="65880"/>
                      <a:chOff x="7083360" y="4347720"/>
                      <a:chExt cx="80640" cy="65880"/>
                    </a:xfrm>
                  </p:grpSpPr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7083360" y="4347720"/>
                        <a:ext cx="80640" cy="6588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0" name=""/>
                      <p:cNvGrpSpPr/>
                      <p:nvPr/>
                    </p:nvGrpSpPr>
                    <p:grpSpPr>
                      <a:xfrm>
                        <a:off x="7096680" y="4369680"/>
                        <a:ext cx="44640" cy="32760"/>
                        <a:chOff x="7096680" y="4369680"/>
                        <a:chExt cx="44640" cy="32760"/>
                      </a:xfrm>
                    </p:grpSpPr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7096680" y="4369680"/>
                          <a:ext cx="44640" cy="3276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7096680" y="4369680"/>
                          <a:ext cx="44640" cy="3276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7216560" y="4395600"/>
                    <a:ext cx="177480" cy="158400"/>
                    <a:chOff x="7216560" y="4395600"/>
                    <a:chExt cx="177480" cy="1584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216560" y="4395600"/>
                      <a:ext cx="17748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5" name=""/>
                    <p:cNvGrpSpPr/>
                    <p:nvPr/>
                  </p:nvGrpSpPr>
                  <p:grpSpPr>
                    <a:xfrm>
                      <a:off x="7246080" y="4448160"/>
                      <a:ext cx="98640" cy="79200"/>
                      <a:chOff x="7246080" y="4448160"/>
                      <a:chExt cx="98640" cy="79200"/>
                    </a:xfrm>
                  </p:grpSpPr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7246080" y="4448160"/>
                        <a:ext cx="9864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7246080" y="4448160"/>
                        <a:ext cx="9864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288" name=""/>
            <p:cNvSpPr/>
            <p:nvPr/>
          </p:nvSpPr>
          <p:spPr>
            <a:xfrm flipH="1">
              <a:off x="1599480" y="2971800"/>
              <a:ext cx="5638680" cy="685800"/>
            </a:xfrm>
            <a:custGeom>
              <a:avLst/>
              <a:gdLst>
                <a:gd name="textAreaLeft" fmla="*/ 880920 w 5638680"/>
                <a:gd name="textAreaRight" fmla="*/ 5387040 w 5638680"/>
                <a:gd name="textAreaTop" fmla="*/ 182520 h 685800"/>
                <a:gd name="textAreaBottom" fmla="*/ 5032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749"/>
                  </a:moveTo>
                  <a:lnTo>
                    <a:pt x="19538" y="5749"/>
                  </a:lnTo>
                  <a:lnTo>
                    <a:pt x="19538" y="0"/>
                  </a:lnTo>
                  <a:lnTo>
                    <a:pt x="21600" y="10800"/>
                  </a:lnTo>
                  <a:lnTo>
                    <a:pt x="19538" y="21600"/>
                  </a:lnTo>
                  <a:lnTo>
                    <a:pt x="19538" y="15851"/>
                  </a:lnTo>
                  <a:lnTo>
                    <a:pt x="3375" y="15851"/>
                  </a:lnTo>
                  <a:close/>
                </a:path>
                <a:path w="21600" h="21600">
                  <a:moveTo>
                    <a:pt x="0" y="5749"/>
                  </a:moveTo>
                  <a:lnTo>
                    <a:pt x="675" y="5749"/>
                  </a:lnTo>
                  <a:lnTo>
                    <a:pt x="675" y="15851"/>
                  </a:lnTo>
                  <a:lnTo>
                    <a:pt x="0" y="15851"/>
                  </a:lnTo>
                  <a:close/>
                </a:path>
                <a:path w="21600" h="21600">
                  <a:moveTo>
                    <a:pt x="1350" y="5749"/>
                  </a:moveTo>
                  <a:lnTo>
                    <a:pt x="2700" y="5749"/>
                  </a:lnTo>
                  <a:lnTo>
                    <a:pt x="2700" y="15851"/>
                  </a:lnTo>
                  <a:lnTo>
                    <a:pt x="1350" y="15851"/>
                  </a:lnTo>
                  <a:close/>
                </a:path>
              </a:pathLst>
            </a:cu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odel (federation) Develop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6520" y="5486400"/>
              <a:ext cx="5638680" cy="685800"/>
            </a:xfrm>
            <a:custGeom>
              <a:avLst/>
              <a:gdLst>
                <a:gd name="textAreaLeft" fmla="*/ 880920 w 5638680"/>
                <a:gd name="textAreaRight" fmla="*/ 5387040 w 5638680"/>
                <a:gd name="textAreaTop" fmla="*/ 182520 h 685800"/>
                <a:gd name="textAreaBottom" fmla="*/ 5032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749"/>
                  </a:moveTo>
                  <a:lnTo>
                    <a:pt x="19538" y="5749"/>
                  </a:lnTo>
                  <a:lnTo>
                    <a:pt x="19538" y="0"/>
                  </a:lnTo>
                  <a:lnTo>
                    <a:pt x="21600" y="10800"/>
                  </a:lnTo>
                  <a:lnTo>
                    <a:pt x="19538" y="21600"/>
                  </a:lnTo>
                  <a:lnTo>
                    <a:pt x="19538" y="15851"/>
                  </a:lnTo>
                  <a:lnTo>
                    <a:pt x="3375" y="15851"/>
                  </a:lnTo>
                  <a:close/>
                </a:path>
                <a:path w="21600" h="21600">
                  <a:moveTo>
                    <a:pt x="0" y="5749"/>
                  </a:moveTo>
                  <a:lnTo>
                    <a:pt x="675" y="5749"/>
                  </a:lnTo>
                  <a:lnTo>
                    <a:pt x="675" y="15851"/>
                  </a:lnTo>
                  <a:lnTo>
                    <a:pt x="0" y="15851"/>
                  </a:lnTo>
                  <a:close/>
                </a:path>
                <a:path w="21600" h="21600">
                  <a:moveTo>
                    <a:pt x="1350" y="5749"/>
                  </a:moveTo>
                  <a:lnTo>
                    <a:pt x="2700" y="5749"/>
                  </a:lnTo>
                  <a:lnTo>
                    <a:pt x="2700" y="15851"/>
                  </a:lnTo>
                  <a:lnTo>
                    <a:pt x="1350" y="15851"/>
                  </a:lnTo>
                  <a:close/>
                </a:path>
              </a:pathLst>
            </a:cu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onent-based Archite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ow do we decide if federates are compatible, interoperable and can communicate with each other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matching algorithm based on SOMs!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bjects and attribut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宋体"/>
              </a:rPr>
              <a:t>For each publishable object, there exists at least one subscriber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teractions and parameter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宋体"/>
              </a:rPr>
              <a:t>At least one federate should sense or react to every interaction that is initiated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 (cont’d)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宋体"/>
              </a:rPr>
              <a:t>Limitation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Lack of inform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Common vs. Detailed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Under different assump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Federates are based on assumpt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Example: Electric outle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Plug could not fit into outlet - adaptor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Voltage difference among countries - damag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HLA/FED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752480"/>
            <a:ext cx="8255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66"/>
                </a:solidFill>
                <a:latin typeface="Arial"/>
              </a:rPr>
              <a:t>Federation Development And Execu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66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 high-level, adaptable process for creating, maintaining and executing a feder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90720" y="3429000"/>
            <a:ext cx="7314840" cy="2514600"/>
            <a:chOff x="990720" y="3429000"/>
            <a:chExt cx="7314840" cy="2514600"/>
          </a:xfrm>
        </p:grpSpPr>
        <p:sp>
          <p:nvSpPr>
            <p:cNvPr id="297" name=""/>
            <p:cNvSpPr/>
            <p:nvPr/>
          </p:nvSpPr>
          <p:spPr>
            <a:xfrm>
              <a:off x="990720" y="3962520"/>
              <a:ext cx="6095880" cy="1981080"/>
            </a:xfrm>
            <a:prstGeom prst="rtTriangle">
              <a:avLst/>
            </a:prstGeom>
            <a:solidFill>
              <a:srgbClr val="0066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990720" y="3429000"/>
              <a:ext cx="7314840" cy="2514240"/>
              <a:chOff x="990720" y="3429000"/>
              <a:chExt cx="7314840" cy="2514240"/>
            </a:xfrm>
          </p:grpSpPr>
          <p:sp>
            <p:nvSpPr>
              <p:cNvPr id="299" name=""/>
              <p:cNvSpPr/>
              <p:nvPr/>
            </p:nvSpPr>
            <p:spPr>
              <a:xfrm>
                <a:off x="990720" y="3429000"/>
                <a:ext cx="103428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Requirement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defini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06440" y="3807360"/>
                <a:ext cx="103464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Conceptu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model dev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4680" y="4186080"/>
                <a:ext cx="103428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Feder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desig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932440" y="5059800"/>
                <a:ext cx="103464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Integration &amp;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T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210080" y="5501520"/>
                <a:ext cx="109548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Execution &amp;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result analysi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25000" y="3681360"/>
                <a:ext cx="48564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41400" y="3870720"/>
                <a:ext cx="42624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41080" y="4060080"/>
                <a:ext cx="48708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98080" y="4249440"/>
                <a:ext cx="42624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58960" y="4438800"/>
                <a:ext cx="48564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14520" y="4627800"/>
                <a:ext cx="42588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67080" y="5375520"/>
                <a:ext cx="48708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69120" y="4982040"/>
                <a:ext cx="42624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19880" y="4516200"/>
                <a:ext cx="103428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Feder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develop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3920" y="4904640"/>
                <a:ext cx="48708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82040" y="5526000"/>
                <a:ext cx="42588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071000" y="4821120"/>
              <a:ext cx="2666520" cy="1067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H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Six -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Development and Executio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 (cont’d)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宋体"/>
              </a:rPr>
              <a:t>Suggestion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Integrated Data Se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A standard syntax and semantic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SEDRIS Data Reference Model (DRM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Extensible Elemen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XML toward HTM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User defined ele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Management and Match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24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66"/>
                </a:solidFill>
                <a:latin typeface="Arial"/>
                <a:ea typeface="宋体"/>
              </a:rPr>
              <a:t>Rarely use; once used, it cannot be ignored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24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66"/>
                </a:solidFill>
                <a:latin typeface="Arial"/>
                <a:ea typeface="宋体"/>
              </a:rPr>
              <a:t>Description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Project partner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w</a:t>
            </a: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ish Defence Research Agency, FOI (Farshad Moradi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ational University of Singapore and Singapore Defence Science and Technology Agency (Dr. Gary Tan, Dr. Teo Yong Meng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runel University, London (Dr. Simon Taylor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Model development Environment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bjective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o extend the existing knowledge on Web-based collaboration to distributed modeling and simulation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 simulation model can be developed by a group of people, with possibly different physical locat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llaboration with your Customer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llaboration with your Peer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Example: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Hyperspace virtual laboratory (HVL)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Consider a web-based modeling and simulation environ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ach member develops and maintain its own library of simulation models on the Web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ach member has access to the models developed by other member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isting library sub-models are used to develop a new mod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Model development Environment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Requirements 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n infrastructure, including a set of standards for development, documentation and maintenance of the simulation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ust support collaborative construction of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hort turn-around time for creating new model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asy configuration and modification of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Model development Environment (cont’d)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c80"/>
                </a:solidFill>
                <a:latin typeface="Arial"/>
              </a:rPr>
              <a:t>Propertie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nected to a distributed or centralized repository of simulation models and component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bility to construct component-based simulat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bility to graphically construct distributed  simulation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bility to collaboratively build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tegrated with the distributed execution environ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Research challenges in Model Development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s HLA good enough for developing such an environment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 “SOMs” provide sufficient information to match model components 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es HLA provide sufficient support for building hierarchical model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s it necessary to develop all components in HLA or can we combine different tools/technologie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ow can we expand HLA’s capabilitie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re there any other alternative solution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llaborative Model Execution 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bjectives: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ll team members have th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ecution flow of the model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here must be some synchronization points, e.g., when team members want to discuss and exchange idea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 synchronous execution is NOT necessa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Example 1: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simulation based team design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ll team members wish to see the same execution flow of the mod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am members will discuss the simulation output online and in real-tim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am members may need to re-execute part of the simul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am members may wish to run the simulator with other input data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Example 2: distance education (or training) 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4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ne of the team members (e.g., the teacher) is running the simul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ll students see the same execution flow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am members may stop execution of the simulation and ask quest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Example 3: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Simulation based acquisition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(SBA)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 simulation of a given set of equipments can be run to test 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heir compatibility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heir suitability for a given purpose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eam members will see the same simulation resul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eam members may change some of the input parameter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llaborative Model Execution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xecution mod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cution on a server (centralized execution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cution on client computers (distributed execution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ynchroniz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ime-stepped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indow-based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ptimistic (e.g., Time Warp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Times New Roman"/>
              </a:rPr>
              <a:t>Net-based M&amp;S (NetMas) Platform</a:t>
            </a:r>
            <a:endParaRPr b="0" lang="en-US" sz="4000" spc="-1" strike="noStrike">
              <a:solidFill>
                <a:srgbClr val="ff9999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066680" y="2438280"/>
            <a:ext cx="6782040" cy="3352680"/>
            <a:chOff x="1066680" y="2438280"/>
            <a:chExt cx="6782040" cy="3352680"/>
          </a:xfrm>
        </p:grpSpPr>
        <p:sp>
          <p:nvSpPr>
            <p:cNvPr id="94" name=""/>
            <p:cNvSpPr/>
            <p:nvPr/>
          </p:nvSpPr>
          <p:spPr>
            <a:xfrm>
              <a:off x="1066680" y="3962160"/>
              <a:ext cx="6782040" cy="1828800"/>
            </a:xfrm>
            <a:prstGeom prst="cube">
              <a:avLst>
                <a:gd name="adj" fmla="val 3731"/>
              </a:avLst>
            </a:pr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tributed Model 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3200400"/>
              <a:ext cx="6782040" cy="838080"/>
            </a:xfrm>
            <a:prstGeom prst="cube">
              <a:avLst>
                <a:gd name="adj" fmla="val 10208"/>
              </a:avLst>
            </a:prstGeom>
            <a:solidFill>
              <a:srgbClr val="ffff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6782040" cy="838080"/>
            </a:xfrm>
            <a:prstGeom prst="cube">
              <a:avLst>
                <a:gd name="adj" fmla="val 10208"/>
              </a:avLst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NetMas Porta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6680" y="3276360"/>
              <a:ext cx="2362320" cy="762120"/>
            </a:xfrm>
            <a:prstGeom prst="rect">
              <a:avLst/>
            </a:prstGeom>
            <a:solidFill>
              <a:srgbClr val="00ff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 Constr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9000" y="3276360"/>
              <a:ext cx="2362320" cy="762120"/>
            </a:xfrm>
            <a:prstGeom prst="rect">
              <a:avLst/>
            </a:prstGeom>
            <a:solidFill>
              <a:srgbClr val="ff7c8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 Execu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3276360"/>
              <a:ext cx="1981080" cy="7621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 VV&amp;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90920" y="4572000"/>
              <a:ext cx="3733200" cy="1143000"/>
              <a:chOff x="2590920" y="4572000"/>
              <a:chExt cx="3733200" cy="1143000"/>
            </a:xfrm>
          </p:grpSpPr>
          <p:sp>
            <p:nvSpPr>
              <p:cNvPr id="101" name=""/>
              <p:cNvSpPr/>
              <p:nvPr/>
            </p:nvSpPr>
            <p:spPr>
              <a:xfrm>
                <a:off x="2590920" y="5181480"/>
                <a:ext cx="304560" cy="5335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04960" y="4572000"/>
                <a:ext cx="304560" cy="5335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05160" y="4572000"/>
                <a:ext cx="304560" cy="5335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19560" y="5105520"/>
                <a:ext cx="304560" cy="5331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2160" y="5257800"/>
                <a:ext cx="1066680" cy="304920"/>
              </a:xfrm>
              <a:prstGeom prst="cloudCallout">
                <a:avLst>
                  <a:gd name="adj1" fmla="val -22171"/>
                  <a:gd name="adj2" fmla="val 2448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895480" y="4876920"/>
                <a:ext cx="609120" cy="5331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95480" y="5486400"/>
                <a:ext cx="11426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4952880" y="5486400"/>
                <a:ext cx="10663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5333760" y="4952520"/>
                <a:ext cx="685440" cy="381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3809520" y="4876920"/>
                <a:ext cx="12949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4723920" y="4952880"/>
                <a:ext cx="380520" cy="304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9880" y="4952880"/>
                <a:ext cx="456840" cy="381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Execution Environment (cont’d)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vestigate possibilities of using HLA/RTI in a P2P environment, where computational entities, including RTI are mobile and the system configuration varies over tim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2P (grid computing) and HLA challeng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dentify idle computing resources in an organiza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uspend execution of a federate on one nod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sume execution of a federate that has been suspended on another nod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Research Challenges in Model Execution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es HLA/RTI fulfill requirements of real-time execution of component-based hierarchical model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re there any other alternative tools/technologie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ow can we use peer-to-peer (P2P or grid) computing to utilize existing computing resources more efficiently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oes HLA provide sufficient support for P2P (grid) computing?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can HLA capabilities be expanded to support P2P (grid computing)?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VV&amp;A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VV&amp;A is needed to ensure qualit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halleng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 Distributed Simulations, even if every sub-model of the model library has been verified and validated, the composed model of these sub-models may not be easily validated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Implementation of the Web-based Environment</a:t>
            </a:r>
            <a:r>
              <a:rPr b="1" lang="en-US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Times New Roman"/>
              </a:rPr>
              <a:t>Comparison of suitable web techniques</a:t>
            </a:r>
            <a:endParaRPr b="0" lang="en-US" sz="28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C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A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Java B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J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Java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pplets and </a:t>
            </a: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serv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158600" y="2295360"/>
            <a:ext cx="1545480" cy="1397520"/>
            <a:chOff x="7158600" y="2295360"/>
            <a:chExt cx="1545480" cy="1397520"/>
          </a:xfrm>
        </p:grpSpPr>
        <p:sp>
          <p:nvSpPr>
            <p:cNvPr id="347" name=""/>
            <p:cNvSpPr/>
            <p:nvPr/>
          </p:nvSpPr>
          <p:spPr>
            <a:xfrm>
              <a:off x="7281000" y="3147480"/>
              <a:ext cx="1040400" cy="529920"/>
            </a:xfrm>
            <a:custGeom>
              <a:avLst/>
              <a:gdLst/>
              <a:ahLst/>
              <a:rect l="l" t="t" r="r" b="b"/>
              <a:pathLst>
                <a:path w="2622" h="1334">
                  <a:moveTo>
                    <a:pt x="0" y="0"/>
                  </a:moveTo>
                  <a:lnTo>
                    <a:pt x="814" y="148"/>
                  </a:lnTo>
                  <a:lnTo>
                    <a:pt x="1934" y="260"/>
                  </a:lnTo>
                  <a:lnTo>
                    <a:pt x="2622" y="281"/>
                  </a:lnTo>
                  <a:lnTo>
                    <a:pt x="2441" y="1334"/>
                  </a:lnTo>
                  <a:lnTo>
                    <a:pt x="1282" y="1070"/>
                  </a:lnTo>
                  <a:lnTo>
                    <a:pt x="495" y="901"/>
                  </a:lnTo>
                  <a:lnTo>
                    <a:pt x="268" y="8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84920" y="3275280"/>
              <a:ext cx="199080" cy="231480"/>
            </a:xfrm>
            <a:custGeom>
              <a:avLst/>
              <a:gdLst/>
              <a:ahLst/>
              <a:rect l="l" t="t" r="r" b="b"/>
              <a:pathLst>
                <a:path w="502" h="583">
                  <a:moveTo>
                    <a:pt x="111" y="0"/>
                  </a:moveTo>
                  <a:lnTo>
                    <a:pt x="240" y="21"/>
                  </a:lnTo>
                  <a:lnTo>
                    <a:pt x="225" y="211"/>
                  </a:lnTo>
                  <a:lnTo>
                    <a:pt x="274" y="429"/>
                  </a:lnTo>
                  <a:lnTo>
                    <a:pt x="343" y="388"/>
                  </a:lnTo>
                  <a:lnTo>
                    <a:pt x="360" y="26"/>
                  </a:lnTo>
                  <a:lnTo>
                    <a:pt x="466" y="44"/>
                  </a:lnTo>
                  <a:lnTo>
                    <a:pt x="502" y="583"/>
                  </a:lnTo>
                  <a:lnTo>
                    <a:pt x="0" y="44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49280" y="3275280"/>
              <a:ext cx="199080" cy="214200"/>
            </a:xfrm>
            <a:custGeom>
              <a:avLst/>
              <a:gdLst/>
              <a:ahLst/>
              <a:rect l="l" t="t" r="r" b="b"/>
              <a:pathLst>
                <a:path w="502" h="540">
                  <a:moveTo>
                    <a:pt x="0" y="481"/>
                  </a:moveTo>
                  <a:lnTo>
                    <a:pt x="200" y="0"/>
                  </a:lnTo>
                  <a:lnTo>
                    <a:pt x="259" y="7"/>
                  </a:lnTo>
                  <a:lnTo>
                    <a:pt x="171" y="346"/>
                  </a:lnTo>
                  <a:lnTo>
                    <a:pt x="403" y="371"/>
                  </a:lnTo>
                  <a:lnTo>
                    <a:pt x="449" y="26"/>
                  </a:lnTo>
                  <a:lnTo>
                    <a:pt x="502" y="36"/>
                  </a:lnTo>
                  <a:lnTo>
                    <a:pt x="487" y="540"/>
                  </a:lnTo>
                  <a:lnTo>
                    <a:pt x="0" y="481"/>
                  </a:lnTo>
                  <a:lnTo>
                    <a:pt x="0" y="481"/>
                  </a:lnTo>
                  <a:close/>
                </a:path>
              </a:pathLst>
            </a:custGeom>
            <a:solidFill>
              <a:srgbClr val="b23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50120" y="3021120"/>
              <a:ext cx="284040" cy="655920"/>
            </a:xfrm>
            <a:custGeom>
              <a:avLst/>
              <a:gdLst/>
              <a:ahLst/>
              <a:rect l="l" t="t" r="r" b="b"/>
              <a:pathLst>
                <a:path w="717" h="1654">
                  <a:moveTo>
                    <a:pt x="698" y="0"/>
                  </a:moveTo>
                  <a:lnTo>
                    <a:pt x="133" y="584"/>
                  </a:lnTo>
                  <a:lnTo>
                    <a:pt x="0" y="1654"/>
                  </a:lnTo>
                  <a:lnTo>
                    <a:pt x="717" y="87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007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503920" y="2481120"/>
              <a:ext cx="200160" cy="533160"/>
            </a:xfrm>
            <a:custGeom>
              <a:avLst/>
              <a:gdLst/>
              <a:ahLst/>
              <a:rect l="l" t="t" r="r" b="b"/>
              <a:pathLst>
                <a:path w="503" h="1344">
                  <a:moveTo>
                    <a:pt x="7" y="149"/>
                  </a:moveTo>
                  <a:lnTo>
                    <a:pt x="503" y="0"/>
                  </a:lnTo>
                  <a:lnTo>
                    <a:pt x="300" y="1304"/>
                  </a:lnTo>
                  <a:lnTo>
                    <a:pt x="0" y="1344"/>
                  </a:lnTo>
                  <a:lnTo>
                    <a:pt x="7" y="149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007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9200" y="2945160"/>
              <a:ext cx="1164240" cy="317160"/>
            </a:xfrm>
            <a:custGeom>
              <a:avLst/>
              <a:gdLst/>
              <a:ahLst/>
              <a:rect l="l" t="t" r="r" b="b"/>
              <a:pathLst>
                <a:path w="2933" h="801">
                  <a:moveTo>
                    <a:pt x="956" y="0"/>
                  </a:moveTo>
                  <a:lnTo>
                    <a:pt x="2195" y="164"/>
                  </a:lnTo>
                  <a:lnTo>
                    <a:pt x="2933" y="219"/>
                  </a:lnTo>
                  <a:lnTo>
                    <a:pt x="2558" y="801"/>
                  </a:lnTo>
                  <a:lnTo>
                    <a:pt x="1862" y="776"/>
                  </a:lnTo>
                  <a:lnTo>
                    <a:pt x="750" y="662"/>
                  </a:lnTo>
                  <a:lnTo>
                    <a:pt x="0" y="491"/>
                  </a:lnTo>
                  <a:lnTo>
                    <a:pt x="956" y="0"/>
                  </a:lnTo>
                  <a:lnTo>
                    <a:pt x="95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30240" y="2922120"/>
              <a:ext cx="1296000" cy="357480"/>
            </a:xfrm>
            <a:custGeom>
              <a:avLst/>
              <a:gdLst/>
              <a:ahLst/>
              <a:rect l="l" t="t" r="r" b="b"/>
              <a:pathLst>
                <a:path w="3268" h="901">
                  <a:moveTo>
                    <a:pt x="1086" y="0"/>
                  </a:moveTo>
                  <a:lnTo>
                    <a:pt x="0" y="574"/>
                  </a:lnTo>
                  <a:lnTo>
                    <a:pt x="10" y="578"/>
                  </a:lnTo>
                  <a:lnTo>
                    <a:pt x="38" y="588"/>
                  </a:lnTo>
                  <a:lnTo>
                    <a:pt x="57" y="593"/>
                  </a:lnTo>
                  <a:lnTo>
                    <a:pt x="84" y="601"/>
                  </a:lnTo>
                  <a:lnTo>
                    <a:pt x="114" y="610"/>
                  </a:lnTo>
                  <a:lnTo>
                    <a:pt x="150" y="620"/>
                  </a:lnTo>
                  <a:lnTo>
                    <a:pt x="190" y="629"/>
                  </a:lnTo>
                  <a:lnTo>
                    <a:pt x="236" y="641"/>
                  </a:lnTo>
                  <a:lnTo>
                    <a:pt x="261" y="647"/>
                  </a:lnTo>
                  <a:lnTo>
                    <a:pt x="287" y="654"/>
                  </a:lnTo>
                  <a:lnTo>
                    <a:pt x="314" y="660"/>
                  </a:lnTo>
                  <a:lnTo>
                    <a:pt x="344" y="667"/>
                  </a:lnTo>
                  <a:lnTo>
                    <a:pt x="373" y="673"/>
                  </a:lnTo>
                  <a:lnTo>
                    <a:pt x="405" y="679"/>
                  </a:lnTo>
                  <a:lnTo>
                    <a:pt x="437" y="686"/>
                  </a:lnTo>
                  <a:lnTo>
                    <a:pt x="472" y="694"/>
                  </a:lnTo>
                  <a:lnTo>
                    <a:pt x="508" y="700"/>
                  </a:lnTo>
                  <a:lnTo>
                    <a:pt x="544" y="707"/>
                  </a:lnTo>
                  <a:lnTo>
                    <a:pt x="584" y="715"/>
                  </a:lnTo>
                  <a:lnTo>
                    <a:pt x="622" y="721"/>
                  </a:lnTo>
                  <a:lnTo>
                    <a:pt x="664" y="728"/>
                  </a:lnTo>
                  <a:lnTo>
                    <a:pt x="705" y="736"/>
                  </a:lnTo>
                  <a:lnTo>
                    <a:pt x="751" y="744"/>
                  </a:lnTo>
                  <a:lnTo>
                    <a:pt x="797" y="751"/>
                  </a:lnTo>
                  <a:lnTo>
                    <a:pt x="842" y="757"/>
                  </a:lnTo>
                  <a:lnTo>
                    <a:pt x="892" y="764"/>
                  </a:lnTo>
                  <a:lnTo>
                    <a:pt x="941" y="772"/>
                  </a:lnTo>
                  <a:lnTo>
                    <a:pt x="992" y="778"/>
                  </a:lnTo>
                  <a:lnTo>
                    <a:pt x="1046" y="785"/>
                  </a:lnTo>
                  <a:lnTo>
                    <a:pt x="1099" y="793"/>
                  </a:lnTo>
                  <a:lnTo>
                    <a:pt x="1156" y="799"/>
                  </a:lnTo>
                  <a:lnTo>
                    <a:pt x="1213" y="806"/>
                  </a:lnTo>
                  <a:lnTo>
                    <a:pt x="1272" y="812"/>
                  </a:lnTo>
                  <a:lnTo>
                    <a:pt x="1333" y="820"/>
                  </a:lnTo>
                  <a:lnTo>
                    <a:pt x="1394" y="825"/>
                  </a:lnTo>
                  <a:lnTo>
                    <a:pt x="1458" y="831"/>
                  </a:lnTo>
                  <a:lnTo>
                    <a:pt x="1523" y="837"/>
                  </a:lnTo>
                  <a:lnTo>
                    <a:pt x="1589" y="844"/>
                  </a:lnTo>
                  <a:lnTo>
                    <a:pt x="1728" y="856"/>
                  </a:lnTo>
                  <a:lnTo>
                    <a:pt x="1873" y="865"/>
                  </a:lnTo>
                  <a:lnTo>
                    <a:pt x="2023" y="875"/>
                  </a:lnTo>
                  <a:lnTo>
                    <a:pt x="2180" y="882"/>
                  </a:lnTo>
                  <a:lnTo>
                    <a:pt x="2346" y="890"/>
                  </a:lnTo>
                  <a:lnTo>
                    <a:pt x="2517" y="896"/>
                  </a:lnTo>
                  <a:lnTo>
                    <a:pt x="2694" y="901"/>
                  </a:lnTo>
                  <a:lnTo>
                    <a:pt x="3268" y="249"/>
                  </a:lnTo>
                  <a:lnTo>
                    <a:pt x="3104" y="230"/>
                  </a:lnTo>
                  <a:lnTo>
                    <a:pt x="2644" y="829"/>
                  </a:lnTo>
                  <a:lnTo>
                    <a:pt x="1844" y="751"/>
                  </a:lnTo>
                  <a:lnTo>
                    <a:pt x="856" y="650"/>
                  </a:lnTo>
                  <a:lnTo>
                    <a:pt x="1086" y="99"/>
                  </a:lnTo>
                  <a:lnTo>
                    <a:pt x="1190" y="36"/>
                  </a:lnTo>
                  <a:lnTo>
                    <a:pt x="1086" y="0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37160" y="2962080"/>
              <a:ext cx="421560" cy="222840"/>
            </a:xfrm>
            <a:custGeom>
              <a:avLst/>
              <a:gdLst/>
              <a:ahLst/>
              <a:rect l="l" t="t" r="r" b="b"/>
              <a:pathLst>
                <a:path w="1063" h="563">
                  <a:moveTo>
                    <a:pt x="816" y="0"/>
                  </a:moveTo>
                  <a:lnTo>
                    <a:pt x="1063" y="563"/>
                  </a:lnTo>
                  <a:lnTo>
                    <a:pt x="175" y="472"/>
                  </a:lnTo>
                  <a:lnTo>
                    <a:pt x="0" y="434"/>
                  </a:lnTo>
                  <a:lnTo>
                    <a:pt x="816" y="0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26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80280" y="2743560"/>
              <a:ext cx="456120" cy="387720"/>
            </a:xfrm>
            <a:custGeom>
              <a:avLst/>
              <a:gdLst/>
              <a:ahLst/>
              <a:rect l="l" t="t" r="r" b="b"/>
              <a:pathLst>
                <a:path w="1150" h="979">
                  <a:moveTo>
                    <a:pt x="1" y="298"/>
                  </a:moveTo>
                  <a:lnTo>
                    <a:pt x="345" y="464"/>
                  </a:lnTo>
                  <a:lnTo>
                    <a:pt x="334" y="0"/>
                  </a:lnTo>
                  <a:lnTo>
                    <a:pt x="667" y="469"/>
                  </a:lnTo>
                  <a:lnTo>
                    <a:pt x="1150" y="912"/>
                  </a:lnTo>
                  <a:lnTo>
                    <a:pt x="1053" y="979"/>
                  </a:lnTo>
                  <a:lnTo>
                    <a:pt x="39" y="477"/>
                  </a:lnTo>
                  <a:lnTo>
                    <a:pt x="0" y="384"/>
                  </a:lnTo>
                  <a:lnTo>
                    <a:pt x="1" y="298"/>
                  </a:lnTo>
                  <a:lnTo>
                    <a:pt x="1" y="29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75520" y="2746080"/>
              <a:ext cx="507960" cy="443160"/>
            </a:xfrm>
            <a:custGeom>
              <a:avLst/>
              <a:gdLst/>
              <a:ahLst/>
              <a:rect l="l" t="t" r="r" b="b"/>
              <a:pathLst>
                <a:path w="1280" h="1117">
                  <a:moveTo>
                    <a:pt x="232" y="5"/>
                  </a:moveTo>
                  <a:lnTo>
                    <a:pt x="255" y="3"/>
                  </a:lnTo>
                  <a:lnTo>
                    <a:pt x="316" y="0"/>
                  </a:lnTo>
                  <a:lnTo>
                    <a:pt x="398" y="3"/>
                  </a:lnTo>
                  <a:lnTo>
                    <a:pt x="491" y="26"/>
                  </a:lnTo>
                  <a:lnTo>
                    <a:pt x="514" y="34"/>
                  </a:lnTo>
                  <a:lnTo>
                    <a:pt x="536" y="45"/>
                  </a:lnTo>
                  <a:lnTo>
                    <a:pt x="559" y="57"/>
                  </a:lnTo>
                  <a:lnTo>
                    <a:pt x="569" y="64"/>
                  </a:lnTo>
                  <a:lnTo>
                    <a:pt x="580" y="72"/>
                  </a:lnTo>
                  <a:lnTo>
                    <a:pt x="618" y="106"/>
                  </a:lnTo>
                  <a:lnTo>
                    <a:pt x="650" y="152"/>
                  </a:lnTo>
                  <a:lnTo>
                    <a:pt x="664" y="178"/>
                  </a:lnTo>
                  <a:lnTo>
                    <a:pt x="675" y="207"/>
                  </a:lnTo>
                  <a:lnTo>
                    <a:pt x="688" y="273"/>
                  </a:lnTo>
                  <a:lnTo>
                    <a:pt x="692" y="353"/>
                  </a:lnTo>
                  <a:lnTo>
                    <a:pt x="683" y="446"/>
                  </a:lnTo>
                  <a:lnTo>
                    <a:pt x="1280" y="963"/>
                  </a:lnTo>
                  <a:lnTo>
                    <a:pt x="1166" y="1117"/>
                  </a:lnTo>
                  <a:lnTo>
                    <a:pt x="993" y="1094"/>
                  </a:lnTo>
                  <a:lnTo>
                    <a:pt x="434" y="655"/>
                  </a:lnTo>
                  <a:lnTo>
                    <a:pt x="415" y="659"/>
                  </a:lnTo>
                  <a:lnTo>
                    <a:pt x="365" y="665"/>
                  </a:lnTo>
                  <a:lnTo>
                    <a:pt x="295" y="665"/>
                  </a:lnTo>
                  <a:lnTo>
                    <a:pt x="213" y="651"/>
                  </a:lnTo>
                  <a:lnTo>
                    <a:pt x="173" y="636"/>
                  </a:lnTo>
                  <a:lnTo>
                    <a:pt x="152" y="627"/>
                  </a:lnTo>
                  <a:lnTo>
                    <a:pt x="133" y="615"/>
                  </a:lnTo>
                  <a:lnTo>
                    <a:pt x="97" y="589"/>
                  </a:lnTo>
                  <a:lnTo>
                    <a:pt x="65" y="553"/>
                  </a:lnTo>
                  <a:lnTo>
                    <a:pt x="36" y="507"/>
                  </a:lnTo>
                  <a:lnTo>
                    <a:pt x="16" y="452"/>
                  </a:lnTo>
                  <a:lnTo>
                    <a:pt x="0" y="309"/>
                  </a:lnTo>
                  <a:lnTo>
                    <a:pt x="244" y="492"/>
                  </a:lnTo>
                  <a:lnTo>
                    <a:pt x="443" y="421"/>
                  </a:lnTo>
                  <a:lnTo>
                    <a:pt x="399" y="207"/>
                  </a:lnTo>
                  <a:lnTo>
                    <a:pt x="232" y="5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94f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15840" y="3057840"/>
              <a:ext cx="237240" cy="161640"/>
            </a:xfrm>
            <a:custGeom>
              <a:avLst/>
              <a:gdLst/>
              <a:ahLst/>
              <a:rect l="l" t="t" r="r" b="b"/>
              <a:pathLst>
                <a:path w="597" h="407">
                  <a:moveTo>
                    <a:pt x="0" y="280"/>
                  </a:moveTo>
                  <a:lnTo>
                    <a:pt x="4" y="268"/>
                  </a:lnTo>
                  <a:lnTo>
                    <a:pt x="17" y="242"/>
                  </a:lnTo>
                  <a:lnTo>
                    <a:pt x="28" y="225"/>
                  </a:lnTo>
                  <a:lnTo>
                    <a:pt x="40" y="204"/>
                  </a:lnTo>
                  <a:lnTo>
                    <a:pt x="53" y="183"/>
                  </a:lnTo>
                  <a:lnTo>
                    <a:pt x="68" y="160"/>
                  </a:lnTo>
                  <a:lnTo>
                    <a:pt x="85" y="139"/>
                  </a:lnTo>
                  <a:lnTo>
                    <a:pt x="104" y="118"/>
                  </a:lnTo>
                  <a:lnTo>
                    <a:pt x="125" y="99"/>
                  </a:lnTo>
                  <a:lnTo>
                    <a:pt x="146" y="84"/>
                  </a:lnTo>
                  <a:lnTo>
                    <a:pt x="157" y="76"/>
                  </a:lnTo>
                  <a:lnTo>
                    <a:pt x="169" y="71"/>
                  </a:lnTo>
                  <a:lnTo>
                    <a:pt x="192" y="61"/>
                  </a:lnTo>
                  <a:lnTo>
                    <a:pt x="216" y="57"/>
                  </a:lnTo>
                  <a:lnTo>
                    <a:pt x="243" y="59"/>
                  </a:lnTo>
                  <a:lnTo>
                    <a:pt x="289" y="63"/>
                  </a:lnTo>
                  <a:lnTo>
                    <a:pt x="319" y="59"/>
                  </a:lnTo>
                  <a:lnTo>
                    <a:pt x="342" y="50"/>
                  </a:lnTo>
                  <a:lnTo>
                    <a:pt x="353" y="38"/>
                  </a:lnTo>
                  <a:lnTo>
                    <a:pt x="363" y="12"/>
                  </a:lnTo>
                  <a:lnTo>
                    <a:pt x="361" y="0"/>
                  </a:lnTo>
                  <a:lnTo>
                    <a:pt x="503" y="56"/>
                  </a:lnTo>
                  <a:lnTo>
                    <a:pt x="473" y="86"/>
                  </a:lnTo>
                  <a:lnTo>
                    <a:pt x="458" y="116"/>
                  </a:lnTo>
                  <a:lnTo>
                    <a:pt x="465" y="153"/>
                  </a:lnTo>
                  <a:lnTo>
                    <a:pt x="597" y="208"/>
                  </a:lnTo>
                  <a:lnTo>
                    <a:pt x="420" y="407"/>
                  </a:lnTo>
                  <a:lnTo>
                    <a:pt x="17" y="339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68360" y="2999160"/>
              <a:ext cx="366480" cy="203040"/>
            </a:xfrm>
            <a:custGeom>
              <a:avLst/>
              <a:gdLst/>
              <a:ahLst/>
              <a:rect l="l" t="t" r="r" b="b"/>
              <a:pathLst>
                <a:path w="923" h="512">
                  <a:moveTo>
                    <a:pt x="0" y="483"/>
                  </a:moveTo>
                  <a:lnTo>
                    <a:pt x="0" y="443"/>
                  </a:lnTo>
                  <a:lnTo>
                    <a:pt x="7" y="401"/>
                  </a:lnTo>
                  <a:lnTo>
                    <a:pt x="17" y="378"/>
                  </a:lnTo>
                  <a:lnTo>
                    <a:pt x="28" y="354"/>
                  </a:lnTo>
                  <a:lnTo>
                    <a:pt x="43" y="331"/>
                  </a:lnTo>
                  <a:lnTo>
                    <a:pt x="64" y="308"/>
                  </a:lnTo>
                  <a:lnTo>
                    <a:pt x="89" y="285"/>
                  </a:lnTo>
                  <a:lnTo>
                    <a:pt x="104" y="274"/>
                  </a:lnTo>
                  <a:lnTo>
                    <a:pt x="121" y="264"/>
                  </a:lnTo>
                  <a:lnTo>
                    <a:pt x="140" y="257"/>
                  </a:lnTo>
                  <a:lnTo>
                    <a:pt x="161" y="249"/>
                  </a:lnTo>
                  <a:lnTo>
                    <a:pt x="182" y="242"/>
                  </a:lnTo>
                  <a:lnTo>
                    <a:pt x="207" y="236"/>
                  </a:lnTo>
                  <a:lnTo>
                    <a:pt x="260" y="226"/>
                  </a:lnTo>
                  <a:lnTo>
                    <a:pt x="323" y="223"/>
                  </a:lnTo>
                  <a:lnTo>
                    <a:pt x="328" y="209"/>
                  </a:lnTo>
                  <a:lnTo>
                    <a:pt x="336" y="194"/>
                  </a:lnTo>
                  <a:lnTo>
                    <a:pt x="347" y="175"/>
                  </a:lnTo>
                  <a:lnTo>
                    <a:pt x="363" y="152"/>
                  </a:lnTo>
                  <a:lnTo>
                    <a:pt x="382" y="128"/>
                  </a:lnTo>
                  <a:lnTo>
                    <a:pt x="403" y="103"/>
                  </a:lnTo>
                  <a:lnTo>
                    <a:pt x="429" y="78"/>
                  </a:lnTo>
                  <a:lnTo>
                    <a:pt x="460" y="55"/>
                  </a:lnTo>
                  <a:lnTo>
                    <a:pt x="477" y="44"/>
                  </a:lnTo>
                  <a:lnTo>
                    <a:pt x="494" y="34"/>
                  </a:lnTo>
                  <a:lnTo>
                    <a:pt x="513" y="25"/>
                  </a:lnTo>
                  <a:lnTo>
                    <a:pt x="532" y="17"/>
                  </a:lnTo>
                  <a:lnTo>
                    <a:pt x="553" y="12"/>
                  </a:lnTo>
                  <a:lnTo>
                    <a:pt x="576" y="6"/>
                  </a:lnTo>
                  <a:lnTo>
                    <a:pt x="623" y="0"/>
                  </a:lnTo>
                  <a:lnTo>
                    <a:pt x="674" y="2"/>
                  </a:lnTo>
                  <a:lnTo>
                    <a:pt x="731" y="12"/>
                  </a:lnTo>
                  <a:lnTo>
                    <a:pt x="762" y="19"/>
                  </a:lnTo>
                  <a:lnTo>
                    <a:pt x="794" y="31"/>
                  </a:lnTo>
                  <a:lnTo>
                    <a:pt x="680" y="124"/>
                  </a:lnTo>
                  <a:lnTo>
                    <a:pt x="686" y="122"/>
                  </a:lnTo>
                  <a:lnTo>
                    <a:pt x="701" y="114"/>
                  </a:lnTo>
                  <a:lnTo>
                    <a:pt x="728" y="107"/>
                  </a:lnTo>
                  <a:lnTo>
                    <a:pt x="760" y="99"/>
                  </a:lnTo>
                  <a:lnTo>
                    <a:pt x="796" y="95"/>
                  </a:lnTo>
                  <a:lnTo>
                    <a:pt x="838" y="99"/>
                  </a:lnTo>
                  <a:lnTo>
                    <a:pt x="882" y="110"/>
                  </a:lnTo>
                  <a:lnTo>
                    <a:pt x="902" y="120"/>
                  </a:lnTo>
                  <a:lnTo>
                    <a:pt x="923" y="133"/>
                  </a:lnTo>
                  <a:lnTo>
                    <a:pt x="853" y="135"/>
                  </a:lnTo>
                  <a:lnTo>
                    <a:pt x="720" y="221"/>
                  </a:lnTo>
                  <a:lnTo>
                    <a:pt x="604" y="173"/>
                  </a:lnTo>
                  <a:lnTo>
                    <a:pt x="454" y="282"/>
                  </a:lnTo>
                  <a:lnTo>
                    <a:pt x="423" y="512"/>
                  </a:lnTo>
                  <a:lnTo>
                    <a:pt x="0" y="483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93560" y="2469240"/>
              <a:ext cx="201600" cy="491760"/>
            </a:xfrm>
            <a:custGeom>
              <a:avLst/>
              <a:gdLst/>
              <a:ahLst/>
              <a:rect l="l" t="t" r="r" b="b"/>
              <a:pathLst>
                <a:path w="508" h="1239">
                  <a:moveTo>
                    <a:pt x="80" y="0"/>
                  </a:moveTo>
                  <a:lnTo>
                    <a:pt x="508" y="199"/>
                  </a:lnTo>
                  <a:lnTo>
                    <a:pt x="344" y="1239"/>
                  </a:lnTo>
                  <a:lnTo>
                    <a:pt x="0" y="1186"/>
                  </a:lnTo>
                  <a:lnTo>
                    <a:pt x="12" y="58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23080" y="2473200"/>
              <a:ext cx="770760" cy="550440"/>
            </a:xfrm>
            <a:custGeom>
              <a:avLst/>
              <a:gdLst/>
              <a:ahLst/>
              <a:rect l="l" t="t" r="r" b="b"/>
              <a:pathLst>
                <a:path w="1941" h="1388">
                  <a:moveTo>
                    <a:pt x="0" y="29"/>
                  </a:moveTo>
                  <a:lnTo>
                    <a:pt x="310" y="225"/>
                  </a:lnTo>
                  <a:lnTo>
                    <a:pt x="1593" y="1388"/>
                  </a:lnTo>
                  <a:lnTo>
                    <a:pt x="1888" y="1388"/>
                  </a:lnTo>
                  <a:lnTo>
                    <a:pt x="1941" y="192"/>
                  </a:lnTo>
                  <a:lnTo>
                    <a:pt x="1913" y="185"/>
                  </a:lnTo>
                  <a:lnTo>
                    <a:pt x="1878" y="177"/>
                  </a:lnTo>
                  <a:lnTo>
                    <a:pt x="1831" y="166"/>
                  </a:lnTo>
                  <a:lnTo>
                    <a:pt x="1804" y="160"/>
                  </a:lnTo>
                  <a:lnTo>
                    <a:pt x="1776" y="154"/>
                  </a:lnTo>
                  <a:lnTo>
                    <a:pt x="1743" y="147"/>
                  </a:lnTo>
                  <a:lnTo>
                    <a:pt x="1711" y="141"/>
                  </a:lnTo>
                  <a:lnTo>
                    <a:pt x="1675" y="133"/>
                  </a:lnTo>
                  <a:lnTo>
                    <a:pt x="1639" y="126"/>
                  </a:lnTo>
                  <a:lnTo>
                    <a:pt x="1599" y="118"/>
                  </a:lnTo>
                  <a:lnTo>
                    <a:pt x="1559" y="109"/>
                  </a:lnTo>
                  <a:lnTo>
                    <a:pt x="1519" y="101"/>
                  </a:lnTo>
                  <a:lnTo>
                    <a:pt x="1477" y="94"/>
                  </a:lnTo>
                  <a:lnTo>
                    <a:pt x="1434" y="86"/>
                  </a:lnTo>
                  <a:lnTo>
                    <a:pt x="1392" y="78"/>
                  </a:lnTo>
                  <a:lnTo>
                    <a:pt x="1346" y="69"/>
                  </a:lnTo>
                  <a:lnTo>
                    <a:pt x="1302" y="61"/>
                  </a:lnTo>
                  <a:lnTo>
                    <a:pt x="1259" y="56"/>
                  </a:lnTo>
                  <a:lnTo>
                    <a:pt x="1215" y="48"/>
                  </a:lnTo>
                  <a:lnTo>
                    <a:pt x="1169" y="40"/>
                  </a:lnTo>
                  <a:lnTo>
                    <a:pt x="1126" y="35"/>
                  </a:lnTo>
                  <a:lnTo>
                    <a:pt x="1042" y="23"/>
                  </a:lnTo>
                  <a:lnTo>
                    <a:pt x="958" y="14"/>
                  </a:lnTo>
                  <a:lnTo>
                    <a:pt x="882" y="8"/>
                  </a:lnTo>
                  <a:lnTo>
                    <a:pt x="730" y="0"/>
                  </a:lnTo>
                  <a:lnTo>
                    <a:pt x="578" y="0"/>
                  </a:lnTo>
                  <a:lnTo>
                    <a:pt x="293" y="8"/>
                  </a:lnTo>
                  <a:lnTo>
                    <a:pt x="84" y="2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26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19200" y="2558160"/>
              <a:ext cx="545040" cy="465480"/>
            </a:xfrm>
            <a:custGeom>
              <a:avLst/>
              <a:gdLst/>
              <a:ahLst/>
              <a:rect l="l" t="t" r="r" b="b"/>
              <a:pathLst>
                <a:path w="1374" h="1173">
                  <a:moveTo>
                    <a:pt x="0" y="987"/>
                  </a:moveTo>
                  <a:lnTo>
                    <a:pt x="55" y="2"/>
                  </a:lnTo>
                  <a:lnTo>
                    <a:pt x="281" y="0"/>
                  </a:lnTo>
                  <a:lnTo>
                    <a:pt x="509" y="4"/>
                  </a:lnTo>
                  <a:lnTo>
                    <a:pt x="764" y="21"/>
                  </a:lnTo>
                  <a:lnTo>
                    <a:pt x="887" y="33"/>
                  </a:lnTo>
                  <a:lnTo>
                    <a:pt x="1003" y="46"/>
                  </a:lnTo>
                  <a:lnTo>
                    <a:pt x="1106" y="57"/>
                  </a:lnTo>
                  <a:lnTo>
                    <a:pt x="1197" y="69"/>
                  </a:lnTo>
                  <a:lnTo>
                    <a:pt x="1271" y="78"/>
                  </a:lnTo>
                  <a:lnTo>
                    <a:pt x="1327" y="86"/>
                  </a:lnTo>
                  <a:lnTo>
                    <a:pt x="1374" y="93"/>
                  </a:lnTo>
                  <a:lnTo>
                    <a:pt x="1351" y="1173"/>
                  </a:lnTo>
                  <a:lnTo>
                    <a:pt x="0" y="987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007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43720" y="2595240"/>
              <a:ext cx="59400" cy="336960"/>
            </a:xfrm>
            <a:custGeom>
              <a:avLst/>
              <a:gdLst/>
              <a:ahLst/>
              <a:rect l="l" t="t" r="r" b="b"/>
              <a:pathLst>
                <a:path w="148" h="852">
                  <a:moveTo>
                    <a:pt x="9" y="88"/>
                  </a:moveTo>
                  <a:lnTo>
                    <a:pt x="82" y="0"/>
                  </a:lnTo>
                  <a:lnTo>
                    <a:pt x="146" y="73"/>
                  </a:lnTo>
                  <a:lnTo>
                    <a:pt x="142" y="546"/>
                  </a:lnTo>
                  <a:lnTo>
                    <a:pt x="148" y="833"/>
                  </a:lnTo>
                  <a:lnTo>
                    <a:pt x="9" y="852"/>
                  </a:lnTo>
                  <a:lnTo>
                    <a:pt x="0" y="593"/>
                  </a:lnTo>
                  <a:lnTo>
                    <a:pt x="9" y="88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54080" y="2711880"/>
              <a:ext cx="44280" cy="226080"/>
            </a:xfrm>
            <a:custGeom>
              <a:avLst/>
              <a:gdLst/>
              <a:ahLst/>
              <a:rect l="l" t="t" r="r" b="b"/>
              <a:pathLst>
                <a:path w="112" h="570">
                  <a:moveTo>
                    <a:pt x="32" y="46"/>
                  </a:moveTo>
                  <a:lnTo>
                    <a:pt x="85" y="0"/>
                  </a:lnTo>
                  <a:lnTo>
                    <a:pt x="108" y="46"/>
                  </a:lnTo>
                  <a:lnTo>
                    <a:pt x="112" y="241"/>
                  </a:lnTo>
                  <a:lnTo>
                    <a:pt x="97" y="555"/>
                  </a:lnTo>
                  <a:lnTo>
                    <a:pt x="0" y="570"/>
                  </a:lnTo>
                  <a:lnTo>
                    <a:pt x="19" y="323"/>
                  </a:lnTo>
                  <a:lnTo>
                    <a:pt x="32" y="46"/>
                  </a:lnTo>
                  <a:lnTo>
                    <a:pt x="32" y="46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4000" y="2656440"/>
              <a:ext cx="48960" cy="263160"/>
            </a:xfrm>
            <a:custGeom>
              <a:avLst/>
              <a:gdLst/>
              <a:ahLst/>
              <a:rect l="l" t="t" r="r" b="b"/>
              <a:pathLst>
                <a:path w="123" h="666">
                  <a:moveTo>
                    <a:pt x="47" y="0"/>
                  </a:moveTo>
                  <a:lnTo>
                    <a:pt x="102" y="120"/>
                  </a:lnTo>
                  <a:lnTo>
                    <a:pt x="112" y="384"/>
                  </a:lnTo>
                  <a:lnTo>
                    <a:pt x="123" y="658"/>
                  </a:lnTo>
                  <a:lnTo>
                    <a:pt x="4" y="666"/>
                  </a:lnTo>
                  <a:lnTo>
                    <a:pt x="4" y="379"/>
                  </a:lnTo>
                  <a:lnTo>
                    <a:pt x="0" y="9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74800" y="2618280"/>
              <a:ext cx="51480" cy="285480"/>
            </a:xfrm>
            <a:custGeom>
              <a:avLst/>
              <a:gdLst/>
              <a:ahLst/>
              <a:rect l="l" t="t" r="r" b="b"/>
              <a:pathLst>
                <a:path w="129" h="721">
                  <a:moveTo>
                    <a:pt x="78" y="0"/>
                  </a:moveTo>
                  <a:lnTo>
                    <a:pt x="129" y="72"/>
                  </a:lnTo>
                  <a:lnTo>
                    <a:pt x="129" y="403"/>
                  </a:lnTo>
                  <a:lnTo>
                    <a:pt x="107" y="711"/>
                  </a:lnTo>
                  <a:lnTo>
                    <a:pt x="0" y="721"/>
                  </a:lnTo>
                  <a:lnTo>
                    <a:pt x="12" y="502"/>
                  </a:lnTo>
                  <a:lnTo>
                    <a:pt x="19" y="8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83360" y="2500920"/>
              <a:ext cx="62640" cy="395640"/>
            </a:xfrm>
            <a:custGeom>
              <a:avLst/>
              <a:gdLst/>
              <a:ahLst/>
              <a:rect l="l" t="t" r="r" b="b"/>
              <a:pathLst>
                <a:path w="158" h="998">
                  <a:moveTo>
                    <a:pt x="101" y="0"/>
                  </a:moveTo>
                  <a:lnTo>
                    <a:pt x="158" y="97"/>
                  </a:lnTo>
                  <a:lnTo>
                    <a:pt x="150" y="690"/>
                  </a:lnTo>
                  <a:lnTo>
                    <a:pt x="141" y="996"/>
                  </a:lnTo>
                  <a:lnTo>
                    <a:pt x="0" y="998"/>
                  </a:lnTo>
                  <a:lnTo>
                    <a:pt x="10" y="749"/>
                  </a:lnTo>
                  <a:lnTo>
                    <a:pt x="12" y="473"/>
                  </a:lnTo>
                  <a:lnTo>
                    <a:pt x="17" y="125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82560" y="2558880"/>
              <a:ext cx="71280" cy="326160"/>
            </a:xfrm>
            <a:custGeom>
              <a:avLst/>
              <a:gdLst/>
              <a:ahLst/>
              <a:rect l="l" t="t" r="r" b="b"/>
              <a:pathLst>
                <a:path w="181" h="821">
                  <a:moveTo>
                    <a:pt x="0" y="821"/>
                  </a:moveTo>
                  <a:lnTo>
                    <a:pt x="162" y="795"/>
                  </a:lnTo>
                  <a:lnTo>
                    <a:pt x="158" y="559"/>
                  </a:lnTo>
                  <a:lnTo>
                    <a:pt x="181" y="78"/>
                  </a:lnTo>
                  <a:lnTo>
                    <a:pt x="128" y="0"/>
                  </a:lnTo>
                  <a:lnTo>
                    <a:pt x="75" y="38"/>
                  </a:lnTo>
                  <a:lnTo>
                    <a:pt x="42" y="108"/>
                  </a:lnTo>
                  <a:lnTo>
                    <a:pt x="35" y="538"/>
                  </a:lnTo>
                  <a:lnTo>
                    <a:pt x="0" y="82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47640" y="2746080"/>
              <a:ext cx="559440" cy="90360"/>
            </a:xfrm>
            <a:custGeom>
              <a:avLst/>
              <a:gdLst/>
              <a:ahLst/>
              <a:rect l="l" t="t" r="r" b="b"/>
              <a:pathLst>
                <a:path w="1410" h="228">
                  <a:moveTo>
                    <a:pt x="0" y="115"/>
                  </a:moveTo>
                  <a:lnTo>
                    <a:pt x="11" y="0"/>
                  </a:lnTo>
                  <a:lnTo>
                    <a:pt x="190" y="5"/>
                  </a:lnTo>
                  <a:lnTo>
                    <a:pt x="363" y="17"/>
                  </a:lnTo>
                  <a:lnTo>
                    <a:pt x="456" y="24"/>
                  </a:lnTo>
                  <a:lnTo>
                    <a:pt x="547" y="32"/>
                  </a:lnTo>
                  <a:lnTo>
                    <a:pt x="661" y="45"/>
                  </a:lnTo>
                  <a:lnTo>
                    <a:pt x="760" y="57"/>
                  </a:lnTo>
                  <a:lnTo>
                    <a:pt x="861" y="68"/>
                  </a:lnTo>
                  <a:lnTo>
                    <a:pt x="979" y="76"/>
                  </a:lnTo>
                  <a:lnTo>
                    <a:pt x="1287" y="81"/>
                  </a:lnTo>
                  <a:lnTo>
                    <a:pt x="1409" y="79"/>
                  </a:lnTo>
                  <a:lnTo>
                    <a:pt x="1410" y="212"/>
                  </a:lnTo>
                  <a:lnTo>
                    <a:pt x="1125" y="228"/>
                  </a:lnTo>
                  <a:lnTo>
                    <a:pt x="694" y="205"/>
                  </a:lnTo>
                  <a:lnTo>
                    <a:pt x="295" y="157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05440" y="2331720"/>
              <a:ext cx="998640" cy="204480"/>
            </a:xfrm>
            <a:custGeom>
              <a:avLst/>
              <a:gdLst/>
              <a:ahLst/>
              <a:rect l="l" t="t" r="r" b="b"/>
              <a:pathLst>
                <a:path w="2514" h="515">
                  <a:moveTo>
                    <a:pt x="0" y="346"/>
                  </a:moveTo>
                  <a:lnTo>
                    <a:pt x="317" y="0"/>
                  </a:lnTo>
                  <a:lnTo>
                    <a:pt x="380" y="4"/>
                  </a:lnTo>
                  <a:lnTo>
                    <a:pt x="547" y="15"/>
                  </a:lnTo>
                  <a:lnTo>
                    <a:pt x="665" y="25"/>
                  </a:lnTo>
                  <a:lnTo>
                    <a:pt x="800" y="38"/>
                  </a:lnTo>
                  <a:lnTo>
                    <a:pt x="874" y="46"/>
                  </a:lnTo>
                  <a:lnTo>
                    <a:pt x="950" y="53"/>
                  </a:lnTo>
                  <a:lnTo>
                    <a:pt x="1030" y="63"/>
                  </a:lnTo>
                  <a:lnTo>
                    <a:pt x="1114" y="72"/>
                  </a:lnTo>
                  <a:lnTo>
                    <a:pt x="1199" y="84"/>
                  </a:lnTo>
                  <a:lnTo>
                    <a:pt x="1285" y="95"/>
                  </a:lnTo>
                  <a:lnTo>
                    <a:pt x="1330" y="103"/>
                  </a:lnTo>
                  <a:lnTo>
                    <a:pt x="1374" y="108"/>
                  </a:lnTo>
                  <a:lnTo>
                    <a:pt x="1420" y="114"/>
                  </a:lnTo>
                  <a:lnTo>
                    <a:pt x="1465" y="122"/>
                  </a:lnTo>
                  <a:lnTo>
                    <a:pt x="1509" y="129"/>
                  </a:lnTo>
                  <a:lnTo>
                    <a:pt x="1555" y="137"/>
                  </a:lnTo>
                  <a:lnTo>
                    <a:pt x="1600" y="144"/>
                  </a:lnTo>
                  <a:lnTo>
                    <a:pt x="1648" y="152"/>
                  </a:lnTo>
                  <a:lnTo>
                    <a:pt x="1693" y="162"/>
                  </a:lnTo>
                  <a:lnTo>
                    <a:pt x="1739" y="169"/>
                  </a:lnTo>
                  <a:lnTo>
                    <a:pt x="1785" y="179"/>
                  </a:lnTo>
                  <a:lnTo>
                    <a:pt x="1830" y="188"/>
                  </a:lnTo>
                  <a:lnTo>
                    <a:pt x="1876" y="198"/>
                  </a:lnTo>
                  <a:lnTo>
                    <a:pt x="1921" y="207"/>
                  </a:lnTo>
                  <a:lnTo>
                    <a:pt x="1967" y="217"/>
                  </a:lnTo>
                  <a:lnTo>
                    <a:pt x="2013" y="228"/>
                  </a:lnTo>
                  <a:lnTo>
                    <a:pt x="2056" y="238"/>
                  </a:lnTo>
                  <a:lnTo>
                    <a:pt x="2100" y="249"/>
                  </a:lnTo>
                  <a:lnTo>
                    <a:pt x="2144" y="260"/>
                  </a:lnTo>
                  <a:lnTo>
                    <a:pt x="2188" y="272"/>
                  </a:lnTo>
                  <a:lnTo>
                    <a:pt x="2231" y="283"/>
                  </a:lnTo>
                  <a:lnTo>
                    <a:pt x="2273" y="296"/>
                  </a:lnTo>
                  <a:lnTo>
                    <a:pt x="2315" y="308"/>
                  </a:lnTo>
                  <a:lnTo>
                    <a:pt x="2336" y="314"/>
                  </a:lnTo>
                  <a:lnTo>
                    <a:pt x="2357" y="321"/>
                  </a:lnTo>
                  <a:lnTo>
                    <a:pt x="2378" y="327"/>
                  </a:lnTo>
                  <a:lnTo>
                    <a:pt x="2397" y="334"/>
                  </a:lnTo>
                  <a:lnTo>
                    <a:pt x="2418" y="340"/>
                  </a:lnTo>
                  <a:lnTo>
                    <a:pt x="2437" y="348"/>
                  </a:lnTo>
                  <a:lnTo>
                    <a:pt x="2457" y="354"/>
                  </a:lnTo>
                  <a:lnTo>
                    <a:pt x="2476" y="361"/>
                  </a:lnTo>
                  <a:lnTo>
                    <a:pt x="2495" y="369"/>
                  </a:lnTo>
                  <a:lnTo>
                    <a:pt x="2514" y="376"/>
                  </a:lnTo>
                  <a:lnTo>
                    <a:pt x="2136" y="515"/>
                  </a:lnTo>
                  <a:lnTo>
                    <a:pt x="1163" y="401"/>
                  </a:lnTo>
                  <a:lnTo>
                    <a:pt x="0" y="346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38240" y="2315160"/>
              <a:ext cx="123120" cy="10620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06" y="268"/>
                  </a:moveTo>
                  <a:lnTo>
                    <a:pt x="309" y="107"/>
                  </a:lnTo>
                  <a:lnTo>
                    <a:pt x="156" y="0"/>
                  </a:lnTo>
                  <a:lnTo>
                    <a:pt x="0" y="224"/>
                  </a:lnTo>
                  <a:lnTo>
                    <a:pt x="106" y="268"/>
                  </a:lnTo>
                  <a:lnTo>
                    <a:pt x="106" y="268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63720" y="2295360"/>
              <a:ext cx="136440" cy="126000"/>
            </a:xfrm>
            <a:custGeom>
              <a:avLst/>
              <a:gdLst/>
              <a:ahLst/>
              <a:rect l="l" t="t" r="r" b="b"/>
              <a:pathLst>
                <a:path w="345" h="317">
                  <a:moveTo>
                    <a:pt x="63" y="91"/>
                  </a:moveTo>
                  <a:lnTo>
                    <a:pt x="143" y="53"/>
                  </a:lnTo>
                  <a:lnTo>
                    <a:pt x="272" y="0"/>
                  </a:lnTo>
                  <a:lnTo>
                    <a:pt x="345" y="49"/>
                  </a:lnTo>
                  <a:lnTo>
                    <a:pt x="230" y="279"/>
                  </a:lnTo>
                  <a:lnTo>
                    <a:pt x="295" y="317"/>
                  </a:lnTo>
                  <a:lnTo>
                    <a:pt x="75" y="277"/>
                  </a:lnTo>
                  <a:lnTo>
                    <a:pt x="0" y="273"/>
                  </a:lnTo>
                  <a:lnTo>
                    <a:pt x="63" y="91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b23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9520" y="3071160"/>
              <a:ext cx="335520" cy="180000"/>
            </a:xfrm>
            <a:custGeom>
              <a:avLst/>
              <a:gdLst/>
              <a:ahLst/>
              <a:rect l="l" t="t" r="r" b="b"/>
              <a:pathLst>
                <a:path w="846" h="452">
                  <a:moveTo>
                    <a:pt x="0" y="95"/>
                  </a:moveTo>
                  <a:lnTo>
                    <a:pt x="483" y="395"/>
                  </a:lnTo>
                  <a:lnTo>
                    <a:pt x="846" y="452"/>
                  </a:lnTo>
                  <a:lnTo>
                    <a:pt x="833" y="439"/>
                  </a:lnTo>
                  <a:lnTo>
                    <a:pt x="795" y="405"/>
                  </a:lnTo>
                  <a:lnTo>
                    <a:pt x="768" y="382"/>
                  </a:lnTo>
                  <a:lnTo>
                    <a:pt x="736" y="353"/>
                  </a:lnTo>
                  <a:lnTo>
                    <a:pt x="696" y="323"/>
                  </a:lnTo>
                  <a:lnTo>
                    <a:pt x="654" y="289"/>
                  </a:lnTo>
                  <a:lnTo>
                    <a:pt x="643" y="281"/>
                  </a:lnTo>
                  <a:lnTo>
                    <a:pt x="630" y="271"/>
                  </a:lnTo>
                  <a:lnTo>
                    <a:pt x="618" y="262"/>
                  </a:lnTo>
                  <a:lnTo>
                    <a:pt x="605" y="254"/>
                  </a:lnTo>
                  <a:lnTo>
                    <a:pt x="593" y="245"/>
                  </a:lnTo>
                  <a:lnTo>
                    <a:pt x="580" y="235"/>
                  </a:lnTo>
                  <a:lnTo>
                    <a:pt x="567" y="226"/>
                  </a:lnTo>
                  <a:lnTo>
                    <a:pt x="552" y="216"/>
                  </a:lnTo>
                  <a:lnTo>
                    <a:pt x="538" y="209"/>
                  </a:lnTo>
                  <a:lnTo>
                    <a:pt x="525" y="199"/>
                  </a:lnTo>
                  <a:lnTo>
                    <a:pt x="510" y="190"/>
                  </a:lnTo>
                  <a:lnTo>
                    <a:pt x="495" y="180"/>
                  </a:lnTo>
                  <a:lnTo>
                    <a:pt x="481" y="171"/>
                  </a:lnTo>
                  <a:lnTo>
                    <a:pt x="466" y="161"/>
                  </a:lnTo>
                  <a:lnTo>
                    <a:pt x="451" y="152"/>
                  </a:lnTo>
                  <a:lnTo>
                    <a:pt x="434" y="142"/>
                  </a:lnTo>
                  <a:lnTo>
                    <a:pt x="419" y="133"/>
                  </a:lnTo>
                  <a:lnTo>
                    <a:pt x="401" y="123"/>
                  </a:lnTo>
                  <a:lnTo>
                    <a:pt x="386" y="114"/>
                  </a:lnTo>
                  <a:lnTo>
                    <a:pt x="369" y="104"/>
                  </a:lnTo>
                  <a:lnTo>
                    <a:pt x="352" y="95"/>
                  </a:lnTo>
                  <a:lnTo>
                    <a:pt x="335" y="85"/>
                  </a:lnTo>
                  <a:lnTo>
                    <a:pt x="318" y="76"/>
                  </a:lnTo>
                  <a:lnTo>
                    <a:pt x="301" y="68"/>
                  </a:lnTo>
                  <a:lnTo>
                    <a:pt x="284" y="59"/>
                  </a:lnTo>
                  <a:lnTo>
                    <a:pt x="265" y="49"/>
                  </a:lnTo>
                  <a:lnTo>
                    <a:pt x="248" y="41"/>
                  </a:lnTo>
                  <a:lnTo>
                    <a:pt x="229" y="32"/>
                  </a:lnTo>
                  <a:lnTo>
                    <a:pt x="209" y="24"/>
                  </a:lnTo>
                  <a:lnTo>
                    <a:pt x="190" y="15"/>
                  </a:lnTo>
                  <a:lnTo>
                    <a:pt x="171" y="7"/>
                  </a:lnTo>
                  <a:lnTo>
                    <a:pt x="152" y="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3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06520" y="2453400"/>
              <a:ext cx="930240" cy="570960"/>
            </a:xfrm>
            <a:custGeom>
              <a:avLst/>
              <a:gdLst/>
              <a:ahLst/>
              <a:rect l="l" t="t" r="r" b="b"/>
              <a:pathLst>
                <a:path w="2343" h="1441">
                  <a:moveTo>
                    <a:pt x="2134" y="209"/>
                  </a:moveTo>
                  <a:lnTo>
                    <a:pt x="2106" y="203"/>
                  </a:lnTo>
                  <a:lnTo>
                    <a:pt x="2071" y="196"/>
                  </a:lnTo>
                  <a:lnTo>
                    <a:pt x="2024" y="186"/>
                  </a:lnTo>
                  <a:lnTo>
                    <a:pt x="1967" y="175"/>
                  </a:lnTo>
                  <a:lnTo>
                    <a:pt x="1935" y="169"/>
                  </a:lnTo>
                  <a:lnTo>
                    <a:pt x="1900" y="162"/>
                  </a:lnTo>
                  <a:lnTo>
                    <a:pt x="1864" y="156"/>
                  </a:lnTo>
                  <a:lnTo>
                    <a:pt x="1826" y="148"/>
                  </a:lnTo>
                  <a:lnTo>
                    <a:pt x="1786" y="141"/>
                  </a:lnTo>
                  <a:lnTo>
                    <a:pt x="1745" y="133"/>
                  </a:lnTo>
                  <a:lnTo>
                    <a:pt x="1703" y="125"/>
                  </a:lnTo>
                  <a:lnTo>
                    <a:pt x="1659" y="116"/>
                  </a:lnTo>
                  <a:lnTo>
                    <a:pt x="1613" y="108"/>
                  </a:lnTo>
                  <a:lnTo>
                    <a:pt x="1568" y="101"/>
                  </a:lnTo>
                  <a:lnTo>
                    <a:pt x="1520" y="93"/>
                  </a:lnTo>
                  <a:lnTo>
                    <a:pt x="1473" y="84"/>
                  </a:lnTo>
                  <a:lnTo>
                    <a:pt x="1425" y="76"/>
                  </a:lnTo>
                  <a:lnTo>
                    <a:pt x="1376" y="68"/>
                  </a:lnTo>
                  <a:lnTo>
                    <a:pt x="1326" y="61"/>
                  </a:lnTo>
                  <a:lnTo>
                    <a:pt x="1279" y="55"/>
                  </a:lnTo>
                  <a:lnTo>
                    <a:pt x="1229" y="48"/>
                  </a:lnTo>
                  <a:lnTo>
                    <a:pt x="1182" y="40"/>
                  </a:lnTo>
                  <a:lnTo>
                    <a:pt x="1134" y="34"/>
                  </a:lnTo>
                  <a:lnTo>
                    <a:pt x="1087" y="28"/>
                  </a:lnTo>
                  <a:lnTo>
                    <a:pt x="994" y="19"/>
                  </a:lnTo>
                  <a:lnTo>
                    <a:pt x="904" y="9"/>
                  </a:lnTo>
                  <a:lnTo>
                    <a:pt x="813" y="4"/>
                  </a:lnTo>
                  <a:lnTo>
                    <a:pt x="636" y="0"/>
                  </a:lnTo>
                  <a:lnTo>
                    <a:pt x="317" y="9"/>
                  </a:lnTo>
                  <a:lnTo>
                    <a:pt x="188" y="19"/>
                  </a:lnTo>
                  <a:lnTo>
                    <a:pt x="87" y="27"/>
                  </a:lnTo>
                  <a:lnTo>
                    <a:pt x="0" y="38"/>
                  </a:lnTo>
                  <a:lnTo>
                    <a:pt x="55" y="95"/>
                  </a:lnTo>
                  <a:lnTo>
                    <a:pt x="422" y="93"/>
                  </a:lnTo>
                  <a:lnTo>
                    <a:pt x="874" y="108"/>
                  </a:lnTo>
                  <a:lnTo>
                    <a:pt x="997" y="116"/>
                  </a:lnTo>
                  <a:lnTo>
                    <a:pt x="1127" y="127"/>
                  </a:lnTo>
                  <a:lnTo>
                    <a:pt x="1258" y="141"/>
                  </a:lnTo>
                  <a:lnTo>
                    <a:pt x="1324" y="148"/>
                  </a:lnTo>
                  <a:lnTo>
                    <a:pt x="1391" y="158"/>
                  </a:lnTo>
                  <a:lnTo>
                    <a:pt x="1459" y="167"/>
                  </a:lnTo>
                  <a:lnTo>
                    <a:pt x="1530" y="179"/>
                  </a:lnTo>
                  <a:lnTo>
                    <a:pt x="1598" y="188"/>
                  </a:lnTo>
                  <a:lnTo>
                    <a:pt x="1669" y="201"/>
                  </a:lnTo>
                  <a:lnTo>
                    <a:pt x="1705" y="209"/>
                  </a:lnTo>
                  <a:lnTo>
                    <a:pt x="1739" y="215"/>
                  </a:lnTo>
                  <a:lnTo>
                    <a:pt x="1775" y="222"/>
                  </a:lnTo>
                  <a:lnTo>
                    <a:pt x="1811" y="230"/>
                  </a:lnTo>
                  <a:lnTo>
                    <a:pt x="1845" y="238"/>
                  </a:lnTo>
                  <a:lnTo>
                    <a:pt x="1881" y="245"/>
                  </a:lnTo>
                  <a:lnTo>
                    <a:pt x="1918" y="255"/>
                  </a:lnTo>
                  <a:lnTo>
                    <a:pt x="1954" y="262"/>
                  </a:lnTo>
                  <a:lnTo>
                    <a:pt x="1918" y="1441"/>
                  </a:lnTo>
                  <a:lnTo>
                    <a:pt x="2098" y="1441"/>
                  </a:lnTo>
                  <a:lnTo>
                    <a:pt x="2309" y="1374"/>
                  </a:lnTo>
                  <a:lnTo>
                    <a:pt x="2343" y="1173"/>
                  </a:lnTo>
                  <a:lnTo>
                    <a:pt x="2106" y="1357"/>
                  </a:lnTo>
                  <a:lnTo>
                    <a:pt x="2111" y="1239"/>
                  </a:lnTo>
                  <a:lnTo>
                    <a:pt x="2136" y="1237"/>
                  </a:lnTo>
                  <a:lnTo>
                    <a:pt x="2168" y="1226"/>
                  </a:lnTo>
                  <a:lnTo>
                    <a:pt x="2187" y="1217"/>
                  </a:lnTo>
                  <a:lnTo>
                    <a:pt x="2199" y="1211"/>
                  </a:lnTo>
                  <a:lnTo>
                    <a:pt x="2210" y="1203"/>
                  </a:lnTo>
                  <a:lnTo>
                    <a:pt x="2224" y="1196"/>
                  </a:lnTo>
                  <a:lnTo>
                    <a:pt x="2235" y="1188"/>
                  </a:lnTo>
                  <a:lnTo>
                    <a:pt x="2244" y="1180"/>
                  </a:lnTo>
                  <a:lnTo>
                    <a:pt x="2254" y="1173"/>
                  </a:lnTo>
                  <a:lnTo>
                    <a:pt x="2286" y="1148"/>
                  </a:lnTo>
                  <a:lnTo>
                    <a:pt x="2313" y="1127"/>
                  </a:lnTo>
                  <a:lnTo>
                    <a:pt x="2303" y="1131"/>
                  </a:lnTo>
                  <a:lnTo>
                    <a:pt x="2260" y="1137"/>
                  </a:lnTo>
                  <a:lnTo>
                    <a:pt x="2225" y="1133"/>
                  </a:lnTo>
                  <a:lnTo>
                    <a:pt x="2212" y="1127"/>
                  </a:lnTo>
                  <a:lnTo>
                    <a:pt x="2184" y="1118"/>
                  </a:lnTo>
                  <a:lnTo>
                    <a:pt x="2151" y="1108"/>
                  </a:lnTo>
                  <a:lnTo>
                    <a:pt x="2130" y="1104"/>
                  </a:lnTo>
                  <a:lnTo>
                    <a:pt x="2115" y="1104"/>
                  </a:lnTo>
                  <a:lnTo>
                    <a:pt x="2134" y="209"/>
                  </a:lnTo>
                  <a:lnTo>
                    <a:pt x="2134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58600" y="2869200"/>
              <a:ext cx="410400" cy="310680"/>
            </a:xfrm>
            <a:custGeom>
              <a:avLst/>
              <a:gdLst/>
              <a:ahLst/>
              <a:rect l="l" t="t" r="r" b="b"/>
              <a:pathLst>
                <a:path w="1035" h="785">
                  <a:moveTo>
                    <a:pt x="42" y="0"/>
                  </a:moveTo>
                  <a:lnTo>
                    <a:pt x="25" y="31"/>
                  </a:lnTo>
                  <a:lnTo>
                    <a:pt x="2" y="112"/>
                  </a:lnTo>
                  <a:lnTo>
                    <a:pt x="0" y="166"/>
                  </a:lnTo>
                  <a:lnTo>
                    <a:pt x="4" y="192"/>
                  </a:lnTo>
                  <a:lnTo>
                    <a:pt x="14" y="221"/>
                  </a:lnTo>
                  <a:lnTo>
                    <a:pt x="25" y="249"/>
                  </a:lnTo>
                  <a:lnTo>
                    <a:pt x="44" y="278"/>
                  </a:lnTo>
                  <a:lnTo>
                    <a:pt x="67" y="306"/>
                  </a:lnTo>
                  <a:lnTo>
                    <a:pt x="99" y="335"/>
                  </a:lnTo>
                  <a:lnTo>
                    <a:pt x="115" y="348"/>
                  </a:lnTo>
                  <a:lnTo>
                    <a:pt x="132" y="360"/>
                  </a:lnTo>
                  <a:lnTo>
                    <a:pt x="149" y="369"/>
                  </a:lnTo>
                  <a:lnTo>
                    <a:pt x="164" y="379"/>
                  </a:lnTo>
                  <a:lnTo>
                    <a:pt x="179" y="386"/>
                  </a:lnTo>
                  <a:lnTo>
                    <a:pt x="194" y="394"/>
                  </a:lnTo>
                  <a:lnTo>
                    <a:pt x="210" y="401"/>
                  </a:lnTo>
                  <a:lnTo>
                    <a:pt x="225" y="405"/>
                  </a:lnTo>
                  <a:lnTo>
                    <a:pt x="253" y="415"/>
                  </a:lnTo>
                  <a:lnTo>
                    <a:pt x="282" y="419"/>
                  </a:lnTo>
                  <a:lnTo>
                    <a:pt x="333" y="422"/>
                  </a:lnTo>
                  <a:lnTo>
                    <a:pt x="421" y="409"/>
                  </a:lnTo>
                  <a:lnTo>
                    <a:pt x="459" y="400"/>
                  </a:lnTo>
                  <a:lnTo>
                    <a:pt x="489" y="394"/>
                  </a:lnTo>
                  <a:lnTo>
                    <a:pt x="599" y="493"/>
                  </a:lnTo>
                  <a:lnTo>
                    <a:pt x="521" y="534"/>
                  </a:lnTo>
                  <a:lnTo>
                    <a:pt x="675" y="548"/>
                  </a:lnTo>
                  <a:lnTo>
                    <a:pt x="624" y="706"/>
                  </a:lnTo>
                  <a:lnTo>
                    <a:pt x="1035" y="785"/>
                  </a:lnTo>
                  <a:lnTo>
                    <a:pt x="508" y="316"/>
                  </a:lnTo>
                  <a:lnTo>
                    <a:pt x="481" y="322"/>
                  </a:lnTo>
                  <a:lnTo>
                    <a:pt x="455" y="327"/>
                  </a:lnTo>
                  <a:lnTo>
                    <a:pt x="405" y="333"/>
                  </a:lnTo>
                  <a:lnTo>
                    <a:pt x="314" y="333"/>
                  </a:lnTo>
                  <a:lnTo>
                    <a:pt x="234" y="316"/>
                  </a:lnTo>
                  <a:lnTo>
                    <a:pt x="200" y="301"/>
                  </a:lnTo>
                  <a:lnTo>
                    <a:pt x="183" y="291"/>
                  </a:lnTo>
                  <a:lnTo>
                    <a:pt x="168" y="282"/>
                  </a:lnTo>
                  <a:lnTo>
                    <a:pt x="115" y="232"/>
                  </a:lnTo>
                  <a:lnTo>
                    <a:pt x="94" y="202"/>
                  </a:lnTo>
                  <a:lnTo>
                    <a:pt x="77" y="168"/>
                  </a:lnTo>
                  <a:lnTo>
                    <a:pt x="52" y="9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38120" y="3120480"/>
              <a:ext cx="56160" cy="69840"/>
            </a:xfrm>
            <a:custGeom>
              <a:avLst/>
              <a:gdLst/>
              <a:ahLst/>
              <a:rect l="l" t="t" r="r" b="b"/>
              <a:pathLst>
                <a:path w="142" h="177">
                  <a:moveTo>
                    <a:pt x="0" y="173"/>
                  </a:moveTo>
                  <a:lnTo>
                    <a:pt x="76" y="177"/>
                  </a:lnTo>
                  <a:lnTo>
                    <a:pt x="85" y="110"/>
                  </a:lnTo>
                  <a:lnTo>
                    <a:pt x="93" y="80"/>
                  </a:lnTo>
                  <a:lnTo>
                    <a:pt x="106" y="52"/>
                  </a:lnTo>
                  <a:lnTo>
                    <a:pt x="121" y="23"/>
                  </a:lnTo>
                  <a:lnTo>
                    <a:pt x="142" y="0"/>
                  </a:lnTo>
                  <a:lnTo>
                    <a:pt x="123" y="10"/>
                  </a:lnTo>
                  <a:lnTo>
                    <a:pt x="114" y="17"/>
                  </a:lnTo>
                  <a:lnTo>
                    <a:pt x="104" y="25"/>
                  </a:lnTo>
                  <a:lnTo>
                    <a:pt x="60" y="65"/>
                  </a:lnTo>
                  <a:lnTo>
                    <a:pt x="39" y="90"/>
                  </a:lnTo>
                  <a:lnTo>
                    <a:pt x="22" y="116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71600" y="3010320"/>
              <a:ext cx="784800" cy="240840"/>
            </a:xfrm>
            <a:custGeom>
              <a:avLst/>
              <a:gdLst/>
              <a:ahLst/>
              <a:rect l="l" t="t" r="r" b="b"/>
              <a:pathLst>
                <a:path w="1979" h="606">
                  <a:moveTo>
                    <a:pt x="0" y="454"/>
                  </a:moveTo>
                  <a:lnTo>
                    <a:pt x="443" y="502"/>
                  </a:lnTo>
                  <a:lnTo>
                    <a:pt x="454" y="488"/>
                  </a:lnTo>
                  <a:lnTo>
                    <a:pt x="481" y="456"/>
                  </a:lnTo>
                  <a:lnTo>
                    <a:pt x="498" y="435"/>
                  </a:lnTo>
                  <a:lnTo>
                    <a:pt x="515" y="414"/>
                  </a:lnTo>
                  <a:lnTo>
                    <a:pt x="532" y="391"/>
                  </a:lnTo>
                  <a:lnTo>
                    <a:pt x="550" y="370"/>
                  </a:lnTo>
                  <a:lnTo>
                    <a:pt x="555" y="376"/>
                  </a:lnTo>
                  <a:lnTo>
                    <a:pt x="563" y="380"/>
                  </a:lnTo>
                  <a:lnTo>
                    <a:pt x="572" y="387"/>
                  </a:lnTo>
                  <a:lnTo>
                    <a:pt x="584" y="397"/>
                  </a:lnTo>
                  <a:lnTo>
                    <a:pt x="597" y="406"/>
                  </a:lnTo>
                  <a:lnTo>
                    <a:pt x="627" y="429"/>
                  </a:lnTo>
                  <a:lnTo>
                    <a:pt x="658" y="454"/>
                  </a:lnTo>
                  <a:lnTo>
                    <a:pt x="688" y="481"/>
                  </a:lnTo>
                  <a:lnTo>
                    <a:pt x="713" y="505"/>
                  </a:lnTo>
                  <a:lnTo>
                    <a:pt x="732" y="528"/>
                  </a:lnTo>
                  <a:lnTo>
                    <a:pt x="964" y="551"/>
                  </a:lnTo>
                  <a:lnTo>
                    <a:pt x="939" y="530"/>
                  </a:lnTo>
                  <a:lnTo>
                    <a:pt x="907" y="502"/>
                  </a:lnTo>
                  <a:lnTo>
                    <a:pt x="886" y="484"/>
                  </a:lnTo>
                  <a:lnTo>
                    <a:pt x="861" y="465"/>
                  </a:lnTo>
                  <a:lnTo>
                    <a:pt x="833" y="444"/>
                  </a:lnTo>
                  <a:lnTo>
                    <a:pt x="802" y="420"/>
                  </a:lnTo>
                  <a:lnTo>
                    <a:pt x="785" y="406"/>
                  </a:lnTo>
                  <a:lnTo>
                    <a:pt x="776" y="401"/>
                  </a:lnTo>
                  <a:lnTo>
                    <a:pt x="766" y="393"/>
                  </a:lnTo>
                  <a:lnTo>
                    <a:pt x="757" y="386"/>
                  </a:lnTo>
                  <a:lnTo>
                    <a:pt x="747" y="380"/>
                  </a:lnTo>
                  <a:lnTo>
                    <a:pt x="738" y="372"/>
                  </a:lnTo>
                  <a:lnTo>
                    <a:pt x="728" y="365"/>
                  </a:lnTo>
                  <a:lnTo>
                    <a:pt x="719" y="357"/>
                  </a:lnTo>
                  <a:lnTo>
                    <a:pt x="707" y="349"/>
                  </a:lnTo>
                  <a:lnTo>
                    <a:pt x="698" y="342"/>
                  </a:lnTo>
                  <a:lnTo>
                    <a:pt x="686" y="334"/>
                  </a:lnTo>
                  <a:lnTo>
                    <a:pt x="675" y="327"/>
                  </a:lnTo>
                  <a:lnTo>
                    <a:pt x="664" y="319"/>
                  </a:lnTo>
                  <a:lnTo>
                    <a:pt x="652" y="311"/>
                  </a:lnTo>
                  <a:lnTo>
                    <a:pt x="641" y="302"/>
                  </a:lnTo>
                  <a:lnTo>
                    <a:pt x="629" y="294"/>
                  </a:lnTo>
                  <a:lnTo>
                    <a:pt x="616" y="287"/>
                  </a:lnTo>
                  <a:lnTo>
                    <a:pt x="605" y="277"/>
                  </a:lnTo>
                  <a:lnTo>
                    <a:pt x="591" y="270"/>
                  </a:lnTo>
                  <a:lnTo>
                    <a:pt x="578" y="260"/>
                  </a:lnTo>
                  <a:lnTo>
                    <a:pt x="567" y="251"/>
                  </a:lnTo>
                  <a:lnTo>
                    <a:pt x="551" y="243"/>
                  </a:lnTo>
                  <a:lnTo>
                    <a:pt x="538" y="233"/>
                  </a:lnTo>
                  <a:lnTo>
                    <a:pt x="548" y="224"/>
                  </a:lnTo>
                  <a:lnTo>
                    <a:pt x="567" y="205"/>
                  </a:lnTo>
                  <a:lnTo>
                    <a:pt x="595" y="186"/>
                  </a:lnTo>
                  <a:lnTo>
                    <a:pt x="608" y="176"/>
                  </a:lnTo>
                  <a:lnTo>
                    <a:pt x="624" y="173"/>
                  </a:lnTo>
                  <a:lnTo>
                    <a:pt x="635" y="176"/>
                  </a:lnTo>
                  <a:lnTo>
                    <a:pt x="650" y="182"/>
                  </a:lnTo>
                  <a:lnTo>
                    <a:pt x="669" y="192"/>
                  </a:lnTo>
                  <a:lnTo>
                    <a:pt x="694" y="201"/>
                  </a:lnTo>
                  <a:lnTo>
                    <a:pt x="709" y="209"/>
                  </a:lnTo>
                  <a:lnTo>
                    <a:pt x="726" y="216"/>
                  </a:lnTo>
                  <a:lnTo>
                    <a:pt x="742" y="224"/>
                  </a:lnTo>
                  <a:lnTo>
                    <a:pt x="761" y="233"/>
                  </a:lnTo>
                  <a:lnTo>
                    <a:pt x="781" y="245"/>
                  </a:lnTo>
                  <a:lnTo>
                    <a:pt x="800" y="256"/>
                  </a:lnTo>
                  <a:lnTo>
                    <a:pt x="823" y="268"/>
                  </a:lnTo>
                  <a:lnTo>
                    <a:pt x="835" y="273"/>
                  </a:lnTo>
                  <a:lnTo>
                    <a:pt x="846" y="281"/>
                  </a:lnTo>
                  <a:lnTo>
                    <a:pt x="857" y="287"/>
                  </a:lnTo>
                  <a:lnTo>
                    <a:pt x="871" y="294"/>
                  </a:lnTo>
                  <a:lnTo>
                    <a:pt x="882" y="302"/>
                  </a:lnTo>
                  <a:lnTo>
                    <a:pt x="895" y="310"/>
                  </a:lnTo>
                  <a:lnTo>
                    <a:pt x="909" y="317"/>
                  </a:lnTo>
                  <a:lnTo>
                    <a:pt x="922" y="325"/>
                  </a:lnTo>
                  <a:lnTo>
                    <a:pt x="935" y="334"/>
                  </a:lnTo>
                  <a:lnTo>
                    <a:pt x="949" y="342"/>
                  </a:lnTo>
                  <a:lnTo>
                    <a:pt x="962" y="351"/>
                  </a:lnTo>
                  <a:lnTo>
                    <a:pt x="977" y="361"/>
                  </a:lnTo>
                  <a:lnTo>
                    <a:pt x="991" y="370"/>
                  </a:lnTo>
                  <a:lnTo>
                    <a:pt x="1006" y="380"/>
                  </a:lnTo>
                  <a:lnTo>
                    <a:pt x="1021" y="391"/>
                  </a:lnTo>
                  <a:lnTo>
                    <a:pt x="1036" y="401"/>
                  </a:lnTo>
                  <a:lnTo>
                    <a:pt x="1051" y="412"/>
                  </a:lnTo>
                  <a:lnTo>
                    <a:pt x="1067" y="422"/>
                  </a:lnTo>
                  <a:lnTo>
                    <a:pt x="1084" y="433"/>
                  </a:lnTo>
                  <a:lnTo>
                    <a:pt x="1099" y="446"/>
                  </a:lnTo>
                  <a:lnTo>
                    <a:pt x="1116" y="458"/>
                  </a:lnTo>
                  <a:lnTo>
                    <a:pt x="1133" y="469"/>
                  </a:lnTo>
                  <a:lnTo>
                    <a:pt x="1141" y="475"/>
                  </a:lnTo>
                  <a:lnTo>
                    <a:pt x="1148" y="483"/>
                  </a:lnTo>
                  <a:lnTo>
                    <a:pt x="1165" y="496"/>
                  </a:lnTo>
                  <a:lnTo>
                    <a:pt x="1202" y="522"/>
                  </a:lnTo>
                  <a:lnTo>
                    <a:pt x="1236" y="549"/>
                  </a:lnTo>
                  <a:lnTo>
                    <a:pt x="1272" y="579"/>
                  </a:lnTo>
                  <a:lnTo>
                    <a:pt x="1316" y="585"/>
                  </a:lnTo>
                  <a:lnTo>
                    <a:pt x="1405" y="595"/>
                  </a:lnTo>
                  <a:lnTo>
                    <a:pt x="1492" y="602"/>
                  </a:lnTo>
                  <a:lnTo>
                    <a:pt x="1532" y="606"/>
                  </a:lnTo>
                  <a:lnTo>
                    <a:pt x="1549" y="589"/>
                  </a:lnTo>
                  <a:lnTo>
                    <a:pt x="1570" y="566"/>
                  </a:lnTo>
                  <a:lnTo>
                    <a:pt x="1601" y="534"/>
                  </a:lnTo>
                  <a:lnTo>
                    <a:pt x="1618" y="513"/>
                  </a:lnTo>
                  <a:lnTo>
                    <a:pt x="1639" y="490"/>
                  </a:lnTo>
                  <a:lnTo>
                    <a:pt x="1660" y="463"/>
                  </a:lnTo>
                  <a:lnTo>
                    <a:pt x="1684" y="433"/>
                  </a:lnTo>
                  <a:lnTo>
                    <a:pt x="1711" y="401"/>
                  </a:lnTo>
                  <a:lnTo>
                    <a:pt x="1739" y="365"/>
                  </a:lnTo>
                  <a:lnTo>
                    <a:pt x="1753" y="344"/>
                  </a:lnTo>
                  <a:lnTo>
                    <a:pt x="1770" y="325"/>
                  </a:lnTo>
                  <a:lnTo>
                    <a:pt x="1785" y="302"/>
                  </a:lnTo>
                  <a:lnTo>
                    <a:pt x="1800" y="281"/>
                  </a:lnTo>
                  <a:lnTo>
                    <a:pt x="1979" y="38"/>
                  </a:lnTo>
                  <a:lnTo>
                    <a:pt x="1916" y="43"/>
                  </a:lnTo>
                  <a:lnTo>
                    <a:pt x="1909" y="49"/>
                  </a:lnTo>
                  <a:lnTo>
                    <a:pt x="1899" y="53"/>
                  </a:lnTo>
                  <a:lnTo>
                    <a:pt x="1886" y="61"/>
                  </a:lnTo>
                  <a:lnTo>
                    <a:pt x="1871" y="70"/>
                  </a:lnTo>
                  <a:lnTo>
                    <a:pt x="1852" y="81"/>
                  </a:lnTo>
                  <a:lnTo>
                    <a:pt x="1840" y="87"/>
                  </a:lnTo>
                  <a:lnTo>
                    <a:pt x="1831" y="95"/>
                  </a:lnTo>
                  <a:lnTo>
                    <a:pt x="1819" y="100"/>
                  </a:lnTo>
                  <a:lnTo>
                    <a:pt x="1806" y="108"/>
                  </a:lnTo>
                  <a:lnTo>
                    <a:pt x="1795" y="116"/>
                  </a:lnTo>
                  <a:lnTo>
                    <a:pt x="1781" y="123"/>
                  </a:lnTo>
                  <a:lnTo>
                    <a:pt x="1768" y="133"/>
                  </a:lnTo>
                  <a:lnTo>
                    <a:pt x="1755" y="140"/>
                  </a:lnTo>
                  <a:lnTo>
                    <a:pt x="1741" y="150"/>
                  </a:lnTo>
                  <a:lnTo>
                    <a:pt x="1728" y="159"/>
                  </a:lnTo>
                  <a:lnTo>
                    <a:pt x="1715" y="169"/>
                  </a:lnTo>
                  <a:lnTo>
                    <a:pt x="1700" y="180"/>
                  </a:lnTo>
                  <a:lnTo>
                    <a:pt x="1686" y="190"/>
                  </a:lnTo>
                  <a:lnTo>
                    <a:pt x="1671" y="201"/>
                  </a:lnTo>
                  <a:lnTo>
                    <a:pt x="1643" y="222"/>
                  </a:lnTo>
                  <a:lnTo>
                    <a:pt x="1614" y="247"/>
                  </a:lnTo>
                  <a:lnTo>
                    <a:pt x="1587" y="272"/>
                  </a:lnTo>
                  <a:lnTo>
                    <a:pt x="1595" y="281"/>
                  </a:lnTo>
                  <a:lnTo>
                    <a:pt x="1608" y="306"/>
                  </a:lnTo>
                  <a:lnTo>
                    <a:pt x="1620" y="363"/>
                  </a:lnTo>
                  <a:lnTo>
                    <a:pt x="1605" y="384"/>
                  </a:lnTo>
                  <a:lnTo>
                    <a:pt x="1580" y="382"/>
                  </a:lnTo>
                  <a:lnTo>
                    <a:pt x="1548" y="370"/>
                  </a:lnTo>
                  <a:lnTo>
                    <a:pt x="1525" y="361"/>
                  </a:lnTo>
                  <a:lnTo>
                    <a:pt x="1498" y="349"/>
                  </a:lnTo>
                  <a:lnTo>
                    <a:pt x="1471" y="338"/>
                  </a:lnTo>
                  <a:lnTo>
                    <a:pt x="1458" y="332"/>
                  </a:lnTo>
                  <a:lnTo>
                    <a:pt x="1445" y="327"/>
                  </a:lnTo>
                  <a:lnTo>
                    <a:pt x="1420" y="315"/>
                  </a:lnTo>
                  <a:lnTo>
                    <a:pt x="1395" y="306"/>
                  </a:lnTo>
                  <a:lnTo>
                    <a:pt x="1376" y="300"/>
                  </a:lnTo>
                  <a:lnTo>
                    <a:pt x="1359" y="296"/>
                  </a:lnTo>
                  <a:lnTo>
                    <a:pt x="1329" y="296"/>
                  </a:lnTo>
                  <a:lnTo>
                    <a:pt x="1304" y="304"/>
                  </a:lnTo>
                  <a:lnTo>
                    <a:pt x="1279" y="315"/>
                  </a:lnTo>
                  <a:lnTo>
                    <a:pt x="1249" y="342"/>
                  </a:lnTo>
                  <a:lnTo>
                    <a:pt x="1228" y="361"/>
                  </a:lnTo>
                  <a:lnTo>
                    <a:pt x="1209" y="380"/>
                  </a:lnTo>
                  <a:lnTo>
                    <a:pt x="1177" y="414"/>
                  </a:lnTo>
                  <a:lnTo>
                    <a:pt x="1164" y="429"/>
                  </a:lnTo>
                  <a:lnTo>
                    <a:pt x="1122" y="399"/>
                  </a:lnTo>
                  <a:lnTo>
                    <a:pt x="1129" y="382"/>
                  </a:lnTo>
                  <a:lnTo>
                    <a:pt x="1139" y="363"/>
                  </a:lnTo>
                  <a:lnTo>
                    <a:pt x="1150" y="340"/>
                  </a:lnTo>
                  <a:lnTo>
                    <a:pt x="1165" y="315"/>
                  </a:lnTo>
                  <a:lnTo>
                    <a:pt x="1183" y="291"/>
                  </a:lnTo>
                  <a:lnTo>
                    <a:pt x="1202" y="266"/>
                  </a:lnTo>
                  <a:lnTo>
                    <a:pt x="1221" y="245"/>
                  </a:lnTo>
                  <a:lnTo>
                    <a:pt x="1175" y="247"/>
                  </a:lnTo>
                  <a:lnTo>
                    <a:pt x="1061" y="249"/>
                  </a:lnTo>
                  <a:lnTo>
                    <a:pt x="918" y="237"/>
                  </a:lnTo>
                  <a:lnTo>
                    <a:pt x="848" y="224"/>
                  </a:lnTo>
                  <a:lnTo>
                    <a:pt x="814" y="216"/>
                  </a:lnTo>
                  <a:lnTo>
                    <a:pt x="783" y="205"/>
                  </a:lnTo>
                  <a:lnTo>
                    <a:pt x="783" y="194"/>
                  </a:lnTo>
                  <a:lnTo>
                    <a:pt x="804" y="167"/>
                  </a:lnTo>
                  <a:lnTo>
                    <a:pt x="823" y="150"/>
                  </a:lnTo>
                  <a:lnTo>
                    <a:pt x="835" y="142"/>
                  </a:lnTo>
                  <a:lnTo>
                    <a:pt x="848" y="135"/>
                  </a:lnTo>
                  <a:lnTo>
                    <a:pt x="863" y="125"/>
                  </a:lnTo>
                  <a:lnTo>
                    <a:pt x="878" y="118"/>
                  </a:lnTo>
                  <a:lnTo>
                    <a:pt x="897" y="110"/>
                  </a:lnTo>
                  <a:lnTo>
                    <a:pt x="916" y="104"/>
                  </a:lnTo>
                  <a:lnTo>
                    <a:pt x="897" y="97"/>
                  </a:lnTo>
                  <a:lnTo>
                    <a:pt x="875" y="93"/>
                  </a:lnTo>
                  <a:lnTo>
                    <a:pt x="823" y="95"/>
                  </a:lnTo>
                  <a:lnTo>
                    <a:pt x="762" y="110"/>
                  </a:lnTo>
                  <a:lnTo>
                    <a:pt x="747" y="118"/>
                  </a:lnTo>
                  <a:lnTo>
                    <a:pt x="732" y="127"/>
                  </a:lnTo>
                  <a:lnTo>
                    <a:pt x="717" y="137"/>
                  </a:lnTo>
                  <a:lnTo>
                    <a:pt x="700" y="148"/>
                  </a:lnTo>
                  <a:lnTo>
                    <a:pt x="705" y="118"/>
                  </a:lnTo>
                  <a:lnTo>
                    <a:pt x="713" y="100"/>
                  </a:lnTo>
                  <a:lnTo>
                    <a:pt x="723" y="81"/>
                  </a:lnTo>
                  <a:lnTo>
                    <a:pt x="736" y="61"/>
                  </a:lnTo>
                  <a:lnTo>
                    <a:pt x="755" y="42"/>
                  </a:lnTo>
                  <a:lnTo>
                    <a:pt x="778" y="21"/>
                  </a:lnTo>
                  <a:lnTo>
                    <a:pt x="793" y="9"/>
                  </a:lnTo>
                  <a:lnTo>
                    <a:pt x="808" y="0"/>
                  </a:lnTo>
                  <a:lnTo>
                    <a:pt x="333" y="270"/>
                  </a:lnTo>
                  <a:lnTo>
                    <a:pt x="413" y="349"/>
                  </a:lnTo>
                  <a:lnTo>
                    <a:pt x="289" y="431"/>
                  </a:lnTo>
                  <a:lnTo>
                    <a:pt x="282" y="416"/>
                  </a:lnTo>
                  <a:lnTo>
                    <a:pt x="274" y="401"/>
                  </a:lnTo>
                  <a:lnTo>
                    <a:pt x="257" y="374"/>
                  </a:lnTo>
                  <a:lnTo>
                    <a:pt x="238" y="355"/>
                  </a:lnTo>
                  <a:lnTo>
                    <a:pt x="226" y="346"/>
                  </a:lnTo>
                  <a:lnTo>
                    <a:pt x="217" y="340"/>
                  </a:lnTo>
                  <a:lnTo>
                    <a:pt x="205" y="332"/>
                  </a:lnTo>
                  <a:lnTo>
                    <a:pt x="194" y="329"/>
                  </a:lnTo>
                  <a:lnTo>
                    <a:pt x="169" y="321"/>
                  </a:lnTo>
                  <a:lnTo>
                    <a:pt x="122" y="321"/>
                  </a:lnTo>
                  <a:lnTo>
                    <a:pt x="76" y="336"/>
                  </a:lnTo>
                  <a:lnTo>
                    <a:pt x="57" y="349"/>
                  </a:lnTo>
                  <a:lnTo>
                    <a:pt x="38" y="365"/>
                  </a:lnTo>
                  <a:lnTo>
                    <a:pt x="12" y="405"/>
                  </a:lnTo>
                  <a:lnTo>
                    <a:pt x="0" y="454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12680" y="3057840"/>
              <a:ext cx="47520" cy="31320"/>
            </a:xfrm>
            <a:custGeom>
              <a:avLst/>
              <a:gdLst/>
              <a:ahLst/>
              <a:rect l="l" t="t" r="r" b="b"/>
              <a:pathLst>
                <a:path w="120" h="80">
                  <a:moveTo>
                    <a:pt x="0" y="59"/>
                  </a:moveTo>
                  <a:lnTo>
                    <a:pt x="6" y="61"/>
                  </a:lnTo>
                  <a:lnTo>
                    <a:pt x="21" y="69"/>
                  </a:lnTo>
                  <a:lnTo>
                    <a:pt x="44" y="76"/>
                  </a:lnTo>
                  <a:lnTo>
                    <a:pt x="67" y="80"/>
                  </a:lnTo>
                  <a:lnTo>
                    <a:pt x="89" y="78"/>
                  </a:lnTo>
                  <a:lnTo>
                    <a:pt x="108" y="67"/>
                  </a:lnTo>
                  <a:lnTo>
                    <a:pt x="120" y="42"/>
                  </a:lnTo>
                  <a:lnTo>
                    <a:pt x="118" y="0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65880" y="2748240"/>
              <a:ext cx="85680" cy="188640"/>
            </a:xfrm>
            <a:custGeom>
              <a:avLst/>
              <a:gdLst/>
              <a:ahLst/>
              <a:rect l="l" t="t" r="r" b="b"/>
              <a:pathLst>
                <a:path w="215" h="477">
                  <a:moveTo>
                    <a:pt x="4" y="0"/>
                  </a:moveTo>
                  <a:lnTo>
                    <a:pt x="0" y="116"/>
                  </a:lnTo>
                  <a:lnTo>
                    <a:pt x="147" y="242"/>
                  </a:lnTo>
                  <a:lnTo>
                    <a:pt x="151" y="420"/>
                  </a:lnTo>
                  <a:lnTo>
                    <a:pt x="126" y="441"/>
                  </a:lnTo>
                  <a:lnTo>
                    <a:pt x="94" y="413"/>
                  </a:lnTo>
                  <a:lnTo>
                    <a:pt x="63" y="365"/>
                  </a:lnTo>
                  <a:lnTo>
                    <a:pt x="38" y="287"/>
                  </a:lnTo>
                  <a:lnTo>
                    <a:pt x="23" y="354"/>
                  </a:lnTo>
                  <a:lnTo>
                    <a:pt x="25" y="415"/>
                  </a:lnTo>
                  <a:lnTo>
                    <a:pt x="35" y="447"/>
                  </a:lnTo>
                  <a:lnTo>
                    <a:pt x="42" y="462"/>
                  </a:lnTo>
                  <a:lnTo>
                    <a:pt x="54" y="477"/>
                  </a:lnTo>
                  <a:lnTo>
                    <a:pt x="215" y="416"/>
                  </a:lnTo>
                  <a:lnTo>
                    <a:pt x="209" y="17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30240" y="3013200"/>
              <a:ext cx="1315080" cy="679680"/>
            </a:xfrm>
            <a:custGeom>
              <a:avLst/>
              <a:gdLst/>
              <a:ahLst/>
              <a:rect l="l" t="t" r="r" b="b"/>
              <a:pathLst>
                <a:path w="3315" h="1715">
                  <a:moveTo>
                    <a:pt x="0" y="344"/>
                  </a:moveTo>
                  <a:lnTo>
                    <a:pt x="10" y="363"/>
                  </a:lnTo>
                  <a:lnTo>
                    <a:pt x="23" y="384"/>
                  </a:lnTo>
                  <a:lnTo>
                    <a:pt x="38" y="415"/>
                  </a:lnTo>
                  <a:lnTo>
                    <a:pt x="46" y="434"/>
                  </a:lnTo>
                  <a:lnTo>
                    <a:pt x="57" y="453"/>
                  </a:lnTo>
                  <a:lnTo>
                    <a:pt x="67" y="476"/>
                  </a:lnTo>
                  <a:lnTo>
                    <a:pt x="78" y="498"/>
                  </a:lnTo>
                  <a:lnTo>
                    <a:pt x="91" y="523"/>
                  </a:lnTo>
                  <a:lnTo>
                    <a:pt x="103" y="552"/>
                  </a:lnTo>
                  <a:lnTo>
                    <a:pt x="116" y="578"/>
                  </a:lnTo>
                  <a:lnTo>
                    <a:pt x="129" y="609"/>
                  </a:lnTo>
                  <a:lnTo>
                    <a:pt x="145" y="641"/>
                  </a:lnTo>
                  <a:lnTo>
                    <a:pt x="160" y="673"/>
                  </a:lnTo>
                  <a:lnTo>
                    <a:pt x="175" y="707"/>
                  </a:lnTo>
                  <a:lnTo>
                    <a:pt x="190" y="742"/>
                  </a:lnTo>
                  <a:lnTo>
                    <a:pt x="205" y="778"/>
                  </a:lnTo>
                  <a:lnTo>
                    <a:pt x="221" y="816"/>
                  </a:lnTo>
                  <a:lnTo>
                    <a:pt x="238" y="854"/>
                  </a:lnTo>
                  <a:lnTo>
                    <a:pt x="253" y="894"/>
                  </a:lnTo>
                  <a:lnTo>
                    <a:pt x="270" y="936"/>
                  </a:lnTo>
                  <a:lnTo>
                    <a:pt x="285" y="977"/>
                  </a:lnTo>
                  <a:lnTo>
                    <a:pt x="300" y="1019"/>
                  </a:lnTo>
                  <a:lnTo>
                    <a:pt x="318" y="1063"/>
                  </a:lnTo>
                  <a:lnTo>
                    <a:pt x="333" y="1107"/>
                  </a:lnTo>
                  <a:lnTo>
                    <a:pt x="348" y="1150"/>
                  </a:lnTo>
                  <a:lnTo>
                    <a:pt x="365" y="1196"/>
                  </a:lnTo>
                  <a:lnTo>
                    <a:pt x="378" y="1242"/>
                  </a:lnTo>
                  <a:lnTo>
                    <a:pt x="439" y="1253"/>
                  </a:lnTo>
                  <a:lnTo>
                    <a:pt x="500" y="1264"/>
                  </a:lnTo>
                  <a:lnTo>
                    <a:pt x="561" y="1276"/>
                  </a:lnTo>
                  <a:lnTo>
                    <a:pt x="624" y="1287"/>
                  </a:lnTo>
                  <a:lnTo>
                    <a:pt x="686" y="1300"/>
                  </a:lnTo>
                  <a:lnTo>
                    <a:pt x="719" y="1306"/>
                  </a:lnTo>
                  <a:lnTo>
                    <a:pt x="751" y="1312"/>
                  </a:lnTo>
                  <a:lnTo>
                    <a:pt x="785" y="1319"/>
                  </a:lnTo>
                  <a:lnTo>
                    <a:pt x="818" y="1325"/>
                  </a:lnTo>
                  <a:lnTo>
                    <a:pt x="850" y="1333"/>
                  </a:lnTo>
                  <a:lnTo>
                    <a:pt x="884" y="1338"/>
                  </a:lnTo>
                  <a:lnTo>
                    <a:pt x="916" y="1346"/>
                  </a:lnTo>
                  <a:lnTo>
                    <a:pt x="951" y="1354"/>
                  </a:lnTo>
                  <a:lnTo>
                    <a:pt x="985" y="1359"/>
                  </a:lnTo>
                  <a:lnTo>
                    <a:pt x="1019" y="1367"/>
                  </a:lnTo>
                  <a:lnTo>
                    <a:pt x="1053" y="1375"/>
                  </a:lnTo>
                  <a:lnTo>
                    <a:pt x="1087" y="1382"/>
                  </a:lnTo>
                  <a:lnTo>
                    <a:pt x="1122" y="1390"/>
                  </a:lnTo>
                  <a:lnTo>
                    <a:pt x="1156" y="1396"/>
                  </a:lnTo>
                  <a:lnTo>
                    <a:pt x="1190" y="1403"/>
                  </a:lnTo>
                  <a:lnTo>
                    <a:pt x="1224" y="1411"/>
                  </a:lnTo>
                  <a:lnTo>
                    <a:pt x="1260" y="1418"/>
                  </a:lnTo>
                  <a:lnTo>
                    <a:pt x="1295" y="1426"/>
                  </a:lnTo>
                  <a:lnTo>
                    <a:pt x="1331" y="1434"/>
                  </a:lnTo>
                  <a:lnTo>
                    <a:pt x="1365" y="1441"/>
                  </a:lnTo>
                  <a:lnTo>
                    <a:pt x="1401" y="1451"/>
                  </a:lnTo>
                  <a:lnTo>
                    <a:pt x="1435" y="1458"/>
                  </a:lnTo>
                  <a:lnTo>
                    <a:pt x="1471" y="1466"/>
                  </a:lnTo>
                  <a:lnTo>
                    <a:pt x="1508" y="1473"/>
                  </a:lnTo>
                  <a:lnTo>
                    <a:pt x="1542" y="1481"/>
                  </a:lnTo>
                  <a:lnTo>
                    <a:pt x="1578" y="1489"/>
                  </a:lnTo>
                  <a:lnTo>
                    <a:pt x="1614" y="1498"/>
                  </a:lnTo>
                  <a:lnTo>
                    <a:pt x="1650" y="1506"/>
                  </a:lnTo>
                  <a:lnTo>
                    <a:pt x="1684" y="1513"/>
                  </a:lnTo>
                  <a:lnTo>
                    <a:pt x="1720" y="1521"/>
                  </a:lnTo>
                  <a:lnTo>
                    <a:pt x="1757" y="1530"/>
                  </a:lnTo>
                  <a:lnTo>
                    <a:pt x="1793" y="1538"/>
                  </a:lnTo>
                  <a:lnTo>
                    <a:pt x="1829" y="1546"/>
                  </a:lnTo>
                  <a:lnTo>
                    <a:pt x="1865" y="1553"/>
                  </a:lnTo>
                  <a:lnTo>
                    <a:pt x="1901" y="1563"/>
                  </a:lnTo>
                  <a:lnTo>
                    <a:pt x="1935" y="1570"/>
                  </a:lnTo>
                  <a:lnTo>
                    <a:pt x="1971" y="1578"/>
                  </a:lnTo>
                  <a:lnTo>
                    <a:pt x="2007" y="1587"/>
                  </a:lnTo>
                  <a:lnTo>
                    <a:pt x="2044" y="1595"/>
                  </a:lnTo>
                  <a:lnTo>
                    <a:pt x="2080" y="1603"/>
                  </a:lnTo>
                  <a:lnTo>
                    <a:pt x="2114" y="1610"/>
                  </a:lnTo>
                  <a:lnTo>
                    <a:pt x="2150" y="1620"/>
                  </a:lnTo>
                  <a:lnTo>
                    <a:pt x="2186" y="1627"/>
                  </a:lnTo>
                  <a:lnTo>
                    <a:pt x="2220" y="1635"/>
                  </a:lnTo>
                  <a:lnTo>
                    <a:pt x="2257" y="1645"/>
                  </a:lnTo>
                  <a:lnTo>
                    <a:pt x="2291" y="1652"/>
                  </a:lnTo>
                  <a:lnTo>
                    <a:pt x="2327" y="1660"/>
                  </a:lnTo>
                  <a:lnTo>
                    <a:pt x="2361" y="1667"/>
                  </a:lnTo>
                  <a:lnTo>
                    <a:pt x="2397" y="1677"/>
                  </a:lnTo>
                  <a:lnTo>
                    <a:pt x="2431" y="1684"/>
                  </a:lnTo>
                  <a:lnTo>
                    <a:pt x="2466" y="1692"/>
                  </a:lnTo>
                  <a:lnTo>
                    <a:pt x="2502" y="1700"/>
                  </a:lnTo>
                  <a:lnTo>
                    <a:pt x="2536" y="1707"/>
                  </a:lnTo>
                  <a:lnTo>
                    <a:pt x="2570" y="1715"/>
                  </a:lnTo>
                  <a:lnTo>
                    <a:pt x="2583" y="1702"/>
                  </a:lnTo>
                  <a:lnTo>
                    <a:pt x="2602" y="1686"/>
                  </a:lnTo>
                  <a:lnTo>
                    <a:pt x="2627" y="1662"/>
                  </a:lnTo>
                  <a:lnTo>
                    <a:pt x="2658" y="1633"/>
                  </a:lnTo>
                  <a:lnTo>
                    <a:pt x="2694" y="1597"/>
                  </a:lnTo>
                  <a:lnTo>
                    <a:pt x="2715" y="1576"/>
                  </a:lnTo>
                  <a:lnTo>
                    <a:pt x="2736" y="1553"/>
                  </a:lnTo>
                  <a:lnTo>
                    <a:pt x="2758" y="1530"/>
                  </a:lnTo>
                  <a:lnTo>
                    <a:pt x="2783" y="1506"/>
                  </a:lnTo>
                  <a:lnTo>
                    <a:pt x="2810" y="1479"/>
                  </a:lnTo>
                  <a:lnTo>
                    <a:pt x="2836" y="1451"/>
                  </a:lnTo>
                  <a:lnTo>
                    <a:pt x="2865" y="1420"/>
                  </a:lnTo>
                  <a:lnTo>
                    <a:pt x="2893" y="1388"/>
                  </a:lnTo>
                  <a:lnTo>
                    <a:pt x="2924" y="1356"/>
                  </a:lnTo>
                  <a:lnTo>
                    <a:pt x="2954" y="1321"/>
                  </a:lnTo>
                  <a:lnTo>
                    <a:pt x="2986" y="1285"/>
                  </a:lnTo>
                  <a:lnTo>
                    <a:pt x="3004" y="1266"/>
                  </a:lnTo>
                  <a:lnTo>
                    <a:pt x="3019" y="1247"/>
                  </a:lnTo>
                  <a:lnTo>
                    <a:pt x="3036" y="1228"/>
                  </a:lnTo>
                  <a:lnTo>
                    <a:pt x="3053" y="1209"/>
                  </a:lnTo>
                  <a:lnTo>
                    <a:pt x="3072" y="1188"/>
                  </a:lnTo>
                  <a:lnTo>
                    <a:pt x="3089" y="1167"/>
                  </a:lnTo>
                  <a:lnTo>
                    <a:pt x="3106" y="1146"/>
                  </a:lnTo>
                  <a:lnTo>
                    <a:pt x="3125" y="1126"/>
                  </a:lnTo>
                  <a:lnTo>
                    <a:pt x="3142" y="1105"/>
                  </a:lnTo>
                  <a:lnTo>
                    <a:pt x="3161" y="1082"/>
                  </a:lnTo>
                  <a:lnTo>
                    <a:pt x="3180" y="1061"/>
                  </a:lnTo>
                  <a:lnTo>
                    <a:pt x="3199" y="1038"/>
                  </a:lnTo>
                  <a:lnTo>
                    <a:pt x="3218" y="1015"/>
                  </a:lnTo>
                  <a:lnTo>
                    <a:pt x="3237" y="991"/>
                  </a:lnTo>
                  <a:lnTo>
                    <a:pt x="3256" y="968"/>
                  </a:lnTo>
                  <a:lnTo>
                    <a:pt x="3275" y="943"/>
                  </a:lnTo>
                  <a:lnTo>
                    <a:pt x="3294" y="918"/>
                  </a:lnTo>
                  <a:lnTo>
                    <a:pt x="3315" y="894"/>
                  </a:lnTo>
                  <a:lnTo>
                    <a:pt x="3266" y="0"/>
                  </a:lnTo>
                  <a:lnTo>
                    <a:pt x="3125" y="922"/>
                  </a:lnTo>
                  <a:lnTo>
                    <a:pt x="3087" y="436"/>
                  </a:lnTo>
                  <a:lnTo>
                    <a:pt x="2937" y="1143"/>
                  </a:lnTo>
                  <a:lnTo>
                    <a:pt x="2857" y="702"/>
                  </a:lnTo>
                  <a:lnTo>
                    <a:pt x="2724" y="1418"/>
                  </a:lnTo>
                  <a:lnTo>
                    <a:pt x="2574" y="1648"/>
                  </a:lnTo>
                  <a:lnTo>
                    <a:pt x="2536" y="1639"/>
                  </a:lnTo>
                  <a:lnTo>
                    <a:pt x="2500" y="1629"/>
                  </a:lnTo>
                  <a:lnTo>
                    <a:pt x="2464" y="1620"/>
                  </a:lnTo>
                  <a:lnTo>
                    <a:pt x="2428" y="1612"/>
                  </a:lnTo>
                  <a:lnTo>
                    <a:pt x="2393" y="1603"/>
                  </a:lnTo>
                  <a:lnTo>
                    <a:pt x="2357" y="1595"/>
                  </a:lnTo>
                  <a:lnTo>
                    <a:pt x="2321" y="1586"/>
                  </a:lnTo>
                  <a:lnTo>
                    <a:pt x="2287" y="1576"/>
                  </a:lnTo>
                  <a:lnTo>
                    <a:pt x="2253" y="1568"/>
                  </a:lnTo>
                  <a:lnTo>
                    <a:pt x="2218" y="1559"/>
                  </a:lnTo>
                  <a:lnTo>
                    <a:pt x="2184" y="1551"/>
                  </a:lnTo>
                  <a:lnTo>
                    <a:pt x="2150" y="1542"/>
                  </a:lnTo>
                  <a:lnTo>
                    <a:pt x="2116" y="1534"/>
                  </a:lnTo>
                  <a:lnTo>
                    <a:pt x="2082" y="1525"/>
                  </a:lnTo>
                  <a:lnTo>
                    <a:pt x="2049" y="1517"/>
                  </a:lnTo>
                  <a:lnTo>
                    <a:pt x="2015" y="1510"/>
                  </a:lnTo>
                  <a:lnTo>
                    <a:pt x="1983" y="1500"/>
                  </a:lnTo>
                  <a:lnTo>
                    <a:pt x="1949" y="1492"/>
                  </a:lnTo>
                  <a:lnTo>
                    <a:pt x="1916" y="1485"/>
                  </a:lnTo>
                  <a:lnTo>
                    <a:pt x="1884" y="1477"/>
                  </a:lnTo>
                  <a:lnTo>
                    <a:pt x="1850" y="1468"/>
                  </a:lnTo>
                  <a:lnTo>
                    <a:pt x="1817" y="1460"/>
                  </a:lnTo>
                  <a:lnTo>
                    <a:pt x="1785" y="1453"/>
                  </a:lnTo>
                  <a:lnTo>
                    <a:pt x="1753" y="1445"/>
                  </a:lnTo>
                  <a:lnTo>
                    <a:pt x="1720" y="1437"/>
                  </a:lnTo>
                  <a:lnTo>
                    <a:pt x="1688" y="1430"/>
                  </a:lnTo>
                  <a:lnTo>
                    <a:pt x="1656" y="1420"/>
                  </a:lnTo>
                  <a:lnTo>
                    <a:pt x="1624" y="1413"/>
                  </a:lnTo>
                  <a:lnTo>
                    <a:pt x="1591" y="1405"/>
                  </a:lnTo>
                  <a:lnTo>
                    <a:pt x="1561" y="1397"/>
                  </a:lnTo>
                  <a:lnTo>
                    <a:pt x="1528" y="1390"/>
                  </a:lnTo>
                  <a:lnTo>
                    <a:pt x="1496" y="1382"/>
                  </a:lnTo>
                  <a:lnTo>
                    <a:pt x="1464" y="1375"/>
                  </a:lnTo>
                  <a:lnTo>
                    <a:pt x="1432" y="1367"/>
                  </a:lnTo>
                  <a:lnTo>
                    <a:pt x="1399" y="1361"/>
                  </a:lnTo>
                  <a:lnTo>
                    <a:pt x="1369" y="1354"/>
                  </a:lnTo>
                  <a:lnTo>
                    <a:pt x="1336" y="1346"/>
                  </a:lnTo>
                  <a:lnTo>
                    <a:pt x="1304" y="1338"/>
                  </a:lnTo>
                  <a:lnTo>
                    <a:pt x="1272" y="1331"/>
                  </a:lnTo>
                  <a:lnTo>
                    <a:pt x="1240" y="1325"/>
                  </a:lnTo>
                  <a:lnTo>
                    <a:pt x="1207" y="1318"/>
                  </a:lnTo>
                  <a:lnTo>
                    <a:pt x="1175" y="1310"/>
                  </a:lnTo>
                  <a:lnTo>
                    <a:pt x="1143" y="1302"/>
                  </a:lnTo>
                  <a:lnTo>
                    <a:pt x="1110" y="1297"/>
                  </a:lnTo>
                  <a:lnTo>
                    <a:pt x="1076" y="1289"/>
                  </a:lnTo>
                  <a:lnTo>
                    <a:pt x="1044" y="1283"/>
                  </a:lnTo>
                  <a:lnTo>
                    <a:pt x="1011" y="1276"/>
                  </a:lnTo>
                  <a:lnTo>
                    <a:pt x="979" y="1268"/>
                  </a:lnTo>
                  <a:lnTo>
                    <a:pt x="945" y="1262"/>
                  </a:lnTo>
                  <a:lnTo>
                    <a:pt x="913" y="1255"/>
                  </a:lnTo>
                  <a:lnTo>
                    <a:pt x="878" y="1249"/>
                  </a:lnTo>
                  <a:lnTo>
                    <a:pt x="844" y="1242"/>
                  </a:lnTo>
                  <a:lnTo>
                    <a:pt x="812" y="1236"/>
                  </a:lnTo>
                  <a:lnTo>
                    <a:pt x="778" y="1228"/>
                  </a:lnTo>
                  <a:lnTo>
                    <a:pt x="743" y="1223"/>
                  </a:lnTo>
                  <a:lnTo>
                    <a:pt x="709" y="1217"/>
                  </a:lnTo>
                  <a:lnTo>
                    <a:pt x="673" y="1209"/>
                  </a:lnTo>
                  <a:lnTo>
                    <a:pt x="639" y="1204"/>
                  </a:lnTo>
                  <a:lnTo>
                    <a:pt x="605" y="1198"/>
                  </a:lnTo>
                  <a:lnTo>
                    <a:pt x="569" y="1190"/>
                  </a:lnTo>
                  <a:lnTo>
                    <a:pt x="532" y="1185"/>
                  </a:lnTo>
                  <a:lnTo>
                    <a:pt x="496" y="1179"/>
                  </a:lnTo>
                  <a:lnTo>
                    <a:pt x="424" y="1167"/>
                  </a:lnTo>
                  <a:lnTo>
                    <a:pt x="420" y="1145"/>
                  </a:lnTo>
                  <a:lnTo>
                    <a:pt x="405" y="1086"/>
                  </a:lnTo>
                  <a:lnTo>
                    <a:pt x="396" y="1044"/>
                  </a:lnTo>
                  <a:lnTo>
                    <a:pt x="384" y="996"/>
                  </a:lnTo>
                  <a:lnTo>
                    <a:pt x="371" y="943"/>
                  </a:lnTo>
                  <a:lnTo>
                    <a:pt x="356" y="886"/>
                  </a:lnTo>
                  <a:lnTo>
                    <a:pt x="340" y="825"/>
                  </a:lnTo>
                  <a:lnTo>
                    <a:pt x="323" y="763"/>
                  </a:lnTo>
                  <a:lnTo>
                    <a:pt x="306" y="698"/>
                  </a:lnTo>
                  <a:lnTo>
                    <a:pt x="299" y="666"/>
                  </a:lnTo>
                  <a:lnTo>
                    <a:pt x="289" y="635"/>
                  </a:lnTo>
                  <a:lnTo>
                    <a:pt x="280" y="603"/>
                  </a:lnTo>
                  <a:lnTo>
                    <a:pt x="270" y="571"/>
                  </a:lnTo>
                  <a:lnTo>
                    <a:pt x="262" y="540"/>
                  </a:lnTo>
                  <a:lnTo>
                    <a:pt x="253" y="510"/>
                  </a:lnTo>
                  <a:lnTo>
                    <a:pt x="234" y="451"/>
                  </a:lnTo>
                  <a:lnTo>
                    <a:pt x="217" y="398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49280" y="3292560"/>
              <a:ext cx="250920" cy="231480"/>
            </a:xfrm>
            <a:custGeom>
              <a:avLst/>
              <a:gdLst/>
              <a:ahLst/>
              <a:rect l="l" t="t" r="r" b="b"/>
              <a:pathLst>
                <a:path w="631" h="583">
                  <a:moveTo>
                    <a:pt x="0" y="437"/>
                  </a:moveTo>
                  <a:lnTo>
                    <a:pt x="32" y="351"/>
                  </a:lnTo>
                  <a:lnTo>
                    <a:pt x="555" y="481"/>
                  </a:lnTo>
                  <a:lnTo>
                    <a:pt x="555" y="0"/>
                  </a:lnTo>
                  <a:lnTo>
                    <a:pt x="631" y="583"/>
                  </a:lnTo>
                  <a:lnTo>
                    <a:pt x="0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54040" y="3283200"/>
              <a:ext cx="34920" cy="136440"/>
            </a:xfrm>
            <a:custGeom>
              <a:avLst/>
              <a:gdLst/>
              <a:ahLst/>
              <a:rect l="l" t="t" r="r" b="b"/>
              <a:pathLst>
                <a:path w="88" h="344">
                  <a:moveTo>
                    <a:pt x="65" y="0"/>
                  </a:moveTo>
                  <a:lnTo>
                    <a:pt x="88" y="344"/>
                  </a:lnTo>
                  <a:lnTo>
                    <a:pt x="0" y="334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10960" y="2743560"/>
              <a:ext cx="283320" cy="388440"/>
            </a:xfrm>
            <a:custGeom>
              <a:avLst/>
              <a:gdLst/>
              <a:ahLst/>
              <a:rect l="l" t="t" r="r" b="b"/>
              <a:pathLst>
                <a:path w="715" h="981">
                  <a:moveTo>
                    <a:pt x="6" y="0"/>
                  </a:moveTo>
                  <a:lnTo>
                    <a:pt x="164" y="177"/>
                  </a:lnTo>
                  <a:lnTo>
                    <a:pt x="164" y="443"/>
                  </a:lnTo>
                  <a:lnTo>
                    <a:pt x="715" y="950"/>
                  </a:lnTo>
                  <a:lnTo>
                    <a:pt x="687" y="969"/>
                  </a:lnTo>
                  <a:lnTo>
                    <a:pt x="673" y="981"/>
                  </a:lnTo>
                  <a:lnTo>
                    <a:pt x="90" y="452"/>
                  </a:lnTo>
                  <a:lnTo>
                    <a:pt x="97" y="321"/>
                  </a:lnTo>
                  <a:lnTo>
                    <a:pt x="90" y="264"/>
                  </a:lnTo>
                  <a:lnTo>
                    <a:pt x="82" y="234"/>
                  </a:lnTo>
                  <a:lnTo>
                    <a:pt x="73" y="203"/>
                  </a:lnTo>
                  <a:lnTo>
                    <a:pt x="59" y="175"/>
                  </a:lnTo>
                  <a:lnTo>
                    <a:pt x="44" y="144"/>
                  </a:lnTo>
                  <a:lnTo>
                    <a:pt x="23" y="118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45120" y="2792160"/>
              <a:ext cx="561960" cy="56160"/>
            </a:xfrm>
            <a:custGeom>
              <a:avLst/>
              <a:gdLst/>
              <a:ahLst/>
              <a:rect l="l" t="t" r="r" b="b"/>
              <a:pathLst>
                <a:path w="1416" h="143">
                  <a:moveTo>
                    <a:pt x="0" y="67"/>
                  </a:moveTo>
                  <a:lnTo>
                    <a:pt x="206" y="75"/>
                  </a:lnTo>
                  <a:lnTo>
                    <a:pt x="434" y="88"/>
                  </a:lnTo>
                  <a:lnTo>
                    <a:pt x="571" y="99"/>
                  </a:lnTo>
                  <a:lnTo>
                    <a:pt x="643" y="107"/>
                  </a:lnTo>
                  <a:lnTo>
                    <a:pt x="719" y="115"/>
                  </a:lnTo>
                  <a:lnTo>
                    <a:pt x="795" y="120"/>
                  </a:lnTo>
                  <a:lnTo>
                    <a:pt x="867" y="128"/>
                  </a:lnTo>
                  <a:lnTo>
                    <a:pt x="1000" y="135"/>
                  </a:lnTo>
                  <a:lnTo>
                    <a:pt x="1221" y="143"/>
                  </a:lnTo>
                  <a:lnTo>
                    <a:pt x="1416" y="141"/>
                  </a:lnTo>
                  <a:lnTo>
                    <a:pt x="1416" y="97"/>
                  </a:lnTo>
                  <a:lnTo>
                    <a:pt x="1162" y="92"/>
                  </a:lnTo>
                  <a:lnTo>
                    <a:pt x="930" y="80"/>
                  </a:lnTo>
                  <a:lnTo>
                    <a:pt x="814" y="71"/>
                  </a:lnTo>
                  <a:lnTo>
                    <a:pt x="706" y="61"/>
                  </a:lnTo>
                  <a:lnTo>
                    <a:pt x="652" y="54"/>
                  </a:lnTo>
                  <a:lnTo>
                    <a:pt x="597" y="48"/>
                  </a:lnTo>
                  <a:lnTo>
                    <a:pt x="483" y="37"/>
                  </a:lnTo>
                  <a:lnTo>
                    <a:pt x="365" y="27"/>
                  </a:lnTo>
                  <a:lnTo>
                    <a:pt x="255" y="18"/>
                  </a:lnTo>
                  <a:lnTo>
                    <a:pt x="156" y="10"/>
                  </a:lnTo>
                  <a:lnTo>
                    <a:pt x="76" y="4"/>
                  </a:lnTo>
                  <a:lnTo>
                    <a:pt x="6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85800" y="2574000"/>
              <a:ext cx="59400" cy="176040"/>
            </a:xfrm>
            <a:custGeom>
              <a:avLst/>
              <a:gdLst/>
              <a:ahLst/>
              <a:rect l="l" t="t" r="r" b="b"/>
              <a:pathLst>
                <a:path w="150" h="445">
                  <a:moveTo>
                    <a:pt x="10" y="46"/>
                  </a:moveTo>
                  <a:lnTo>
                    <a:pt x="0" y="435"/>
                  </a:lnTo>
                  <a:lnTo>
                    <a:pt x="122" y="445"/>
                  </a:lnTo>
                  <a:lnTo>
                    <a:pt x="135" y="418"/>
                  </a:lnTo>
                  <a:lnTo>
                    <a:pt x="89" y="428"/>
                  </a:lnTo>
                  <a:lnTo>
                    <a:pt x="137" y="359"/>
                  </a:lnTo>
                  <a:lnTo>
                    <a:pt x="61" y="376"/>
                  </a:lnTo>
                  <a:lnTo>
                    <a:pt x="144" y="236"/>
                  </a:lnTo>
                  <a:lnTo>
                    <a:pt x="65" y="270"/>
                  </a:lnTo>
                  <a:lnTo>
                    <a:pt x="150" y="131"/>
                  </a:lnTo>
                  <a:lnTo>
                    <a:pt x="67" y="167"/>
                  </a:lnTo>
                  <a:lnTo>
                    <a:pt x="139" y="17"/>
                  </a:lnTo>
                  <a:lnTo>
                    <a:pt x="67" y="67"/>
                  </a:lnTo>
                  <a:lnTo>
                    <a:pt x="67" y="0"/>
                  </a:lnTo>
                  <a:lnTo>
                    <a:pt x="10" y="46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82560" y="2808720"/>
              <a:ext cx="64080" cy="78480"/>
            </a:xfrm>
            <a:custGeom>
              <a:avLst/>
              <a:gdLst/>
              <a:ahLst/>
              <a:rect l="l" t="t" r="r" b="b"/>
              <a:pathLst>
                <a:path w="162" h="200">
                  <a:moveTo>
                    <a:pt x="6" y="0"/>
                  </a:moveTo>
                  <a:lnTo>
                    <a:pt x="0" y="192"/>
                  </a:lnTo>
                  <a:lnTo>
                    <a:pt x="118" y="200"/>
                  </a:lnTo>
                  <a:lnTo>
                    <a:pt x="162" y="166"/>
                  </a:lnTo>
                  <a:lnTo>
                    <a:pt x="86" y="162"/>
                  </a:lnTo>
                  <a:lnTo>
                    <a:pt x="135" y="92"/>
                  </a:lnTo>
                  <a:lnTo>
                    <a:pt x="54" y="126"/>
                  </a:lnTo>
                  <a:lnTo>
                    <a:pt x="126" y="29"/>
                  </a:lnTo>
                  <a:lnTo>
                    <a:pt x="59" y="52"/>
                  </a:lnTo>
                  <a:lnTo>
                    <a:pt x="61" y="1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76880" y="2500920"/>
              <a:ext cx="54720" cy="251280"/>
            </a:xfrm>
            <a:custGeom>
              <a:avLst/>
              <a:gdLst/>
              <a:ahLst/>
              <a:rect l="l" t="t" r="r" b="b"/>
              <a:pathLst>
                <a:path w="137" h="635">
                  <a:moveTo>
                    <a:pt x="116" y="0"/>
                  </a:moveTo>
                  <a:lnTo>
                    <a:pt x="19" y="116"/>
                  </a:lnTo>
                  <a:lnTo>
                    <a:pt x="0" y="631"/>
                  </a:lnTo>
                  <a:lnTo>
                    <a:pt x="78" y="635"/>
                  </a:lnTo>
                  <a:lnTo>
                    <a:pt x="120" y="598"/>
                  </a:lnTo>
                  <a:lnTo>
                    <a:pt x="59" y="608"/>
                  </a:lnTo>
                  <a:lnTo>
                    <a:pt x="110" y="503"/>
                  </a:lnTo>
                  <a:lnTo>
                    <a:pt x="53" y="513"/>
                  </a:lnTo>
                  <a:lnTo>
                    <a:pt x="127" y="378"/>
                  </a:lnTo>
                  <a:lnTo>
                    <a:pt x="53" y="410"/>
                  </a:lnTo>
                  <a:lnTo>
                    <a:pt x="127" y="273"/>
                  </a:lnTo>
                  <a:lnTo>
                    <a:pt x="65" y="298"/>
                  </a:lnTo>
                  <a:lnTo>
                    <a:pt x="137" y="161"/>
                  </a:lnTo>
                  <a:lnTo>
                    <a:pt x="74" y="186"/>
                  </a:lnTo>
                  <a:lnTo>
                    <a:pt x="137" y="85"/>
                  </a:lnTo>
                  <a:lnTo>
                    <a:pt x="84" y="91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71480" y="2818080"/>
              <a:ext cx="67320" cy="91800"/>
            </a:xfrm>
            <a:custGeom>
              <a:avLst/>
              <a:gdLst/>
              <a:ahLst/>
              <a:rect l="l" t="t" r="r" b="b"/>
              <a:pathLst>
                <a:path w="171" h="232">
                  <a:moveTo>
                    <a:pt x="13" y="0"/>
                  </a:moveTo>
                  <a:lnTo>
                    <a:pt x="0" y="220"/>
                  </a:lnTo>
                  <a:lnTo>
                    <a:pt x="146" y="232"/>
                  </a:lnTo>
                  <a:lnTo>
                    <a:pt x="171" y="196"/>
                  </a:lnTo>
                  <a:lnTo>
                    <a:pt x="68" y="184"/>
                  </a:lnTo>
                  <a:lnTo>
                    <a:pt x="125" y="129"/>
                  </a:lnTo>
                  <a:lnTo>
                    <a:pt x="64" y="141"/>
                  </a:lnTo>
                  <a:lnTo>
                    <a:pt x="140" y="42"/>
                  </a:lnTo>
                  <a:lnTo>
                    <a:pt x="66" y="70"/>
                  </a:lnTo>
                  <a:lnTo>
                    <a:pt x="74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74800" y="2618280"/>
              <a:ext cx="41040" cy="145080"/>
            </a:xfrm>
            <a:custGeom>
              <a:avLst/>
              <a:gdLst/>
              <a:ahLst/>
              <a:rect l="l" t="t" r="r" b="b"/>
              <a:pathLst>
                <a:path w="105" h="365">
                  <a:moveTo>
                    <a:pt x="78" y="0"/>
                  </a:moveTo>
                  <a:lnTo>
                    <a:pt x="4" y="69"/>
                  </a:lnTo>
                  <a:lnTo>
                    <a:pt x="0" y="360"/>
                  </a:lnTo>
                  <a:lnTo>
                    <a:pt x="42" y="365"/>
                  </a:lnTo>
                  <a:lnTo>
                    <a:pt x="101" y="289"/>
                  </a:lnTo>
                  <a:lnTo>
                    <a:pt x="46" y="310"/>
                  </a:lnTo>
                  <a:lnTo>
                    <a:pt x="103" y="198"/>
                  </a:lnTo>
                  <a:lnTo>
                    <a:pt x="46" y="225"/>
                  </a:lnTo>
                  <a:lnTo>
                    <a:pt x="105" y="101"/>
                  </a:lnTo>
                  <a:lnTo>
                    <a:pt x="46" y="13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68320" y="2827080"/>
              <a:ext cx="48240" cy="83880"/>
            </a:xfrm>
            <a:custGeom>
              <a:avLst/>
              <a:gdLst/>
              <a:ahLst/>
              <a:rect l="l" t="t" r="r" b="b"/>
              <a:pathLst>
                <a:path w="122" h="211">
                  <a:moveTo>
                    <a:pt x="13" y="0"/>
                  </a:moveTo>
                  <a:lnTo>
                    <a:pt x="0" y="205"/>
                  </a:lnTo>
                  <a:lnTo>
                    <a:pt x="93" y="211"/>
                  </a:lnTo>
                  <a:lnTo>
                    <a:pt x="122" y="184"/>
                  </a:lnTo>
                  <a:lnTo>
                    <a:pt x="53" y="175"/>
                  </a:lnTo>
                  <a:lnTo>
                    <a:pt x="110" y="112"/>
                  </a:lnTo>
                  <a:lnTo>
                    <a:pt x="53" y="121"/>
                  </a:lnTo>
                  <a:lnTo>
                    <a:pt x="108" y="53"/>
                  </a:lnTo>
                  <a:lnTo>
                    <a:pt x="63" y="57"/>
                  </a:lnTo>
                  <a:lnTo>
                    <a:pt x="87" y="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46800" y="2656440"/>
              <a:ext cx="39600" cy="114840"/>
            </a:xfrm>
            <a:custGeom>
              <a:avLst/>
              <a:gdLst/>
              <a:ahLst/>
              <a:rect l="l" t="t" r="r" b="b"/>
              <a:pathLst>
                <a:path w="98" h="291">
                  <a:moveTo>
                    <a:pt x="64" y="0"/>
                  </a:moveTo>
                  <a:lnTo>
                    <a:pt x="0" y="86"/>
                  </a:lnTo>
                  <a:lnTo>
                    <a:pt x="3" y="285"/>
                  </a:lnTo>
                  <a:lnTo>
                    <a:pt x="51" y="291"/>
                  </a:lnTo>
                  <a:lnTo>
                    <a:pt x="97" y="246"/>
                  </a:lnTo>
                  <a:lnTo>
                    <a:pt x="38" y="255"/>
                  </a:lnTo>
                  <a:lnTo>
                    <a:pt x="98" y="154"/>
                  </a:lnTo>
                  <a:lnTo>
                    <a:pt x="43" y="175"/>
                  </a:lnTo>
                  <a:lnTo>
                    <a:pt x="81" y="86"/>
                  </a:lnTo>
                  <a:lnTo>
                    <a:pt x="38" y="9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48600" y="2835000"/>
              <a:ext cx="54720" cy="95760"/>
            </a:xfrm>
            <a:custGeom>
              <a:avLst/>
              <a:gdLst/>
              <a:ahLst/>
              <a:rect l="l" t="t" r="r" b="b"/>
              <a:pathLst>
                <a:path w="137" h="241">
                  <a:moveTo>
                    <a:pt x="2" y="0"/>
                  </a:moveTo>
                  <a:lnTo>
                    <a:pt x="0" y="232"/>
                  </a:lnTo>
                  <a:lnTo>
                    <a:pt x="99" y="241"/>
                  </a:lnTo>
                  <a:lnTo>
                    <a:pt x="137" y="207"/>
                  </a:lnTo>
                  <a:lnTo>
                    <a:pt x="65" y="201"/>
                  </a:lnTo>
                  <a:lnTo>
                    <a:pt x="116" y="125"/>
                  </a:lnTo>
                  <a:lnTo>
                    <a:pt x="59" y="152"/>
                  </a:lnTo>
                  <a:lnTo>
                    <a:pt x="107" y="47"/>
                  </a:lnTo>
                  <a:lnTo>
                    <a:pt x="57" y="63"/>
                  </a:lnTo>
                  <a:lnTo>
                    <a:pt x="69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58040" y="2711880"/>
              <a:ext cx="33480" cy="6408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0" y="162"/>
                  </a:moveTo>
                  <a:lnTo>
                    <a:pt x="44" y="162"/>
                  </a:lnTo>
                  <a:lnTo>
                    <a:pt x="84" y="112"/>
                  </a:lnTo>
                  <a:lnTo>
                    <a:pt x="36" y="124"/>
                  </a:lnTo>
                  <a:lnTo>
                    <a:pt x="78" y="65"/>
                  </a:lnTo>
                  <a:lnTo>
                    <a:pt x="38" y="66"/>
                  </a:lnTo>
                  <a:lnTo>
                    <a:pt x="76" y="0"/>
                  </a:lnTo>
                  <a:lnTo>
                    <a:pt x="4" y="40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48320" y="2838960"/>
              <a:ext cx="44280" cy="102960"/>
            </a:xfrm>
            <a:custGeom>
              <a:avLst/>
              <a:gdLst/>
              <a:ahLst/>
              <a:rect l="l" t="t" r="r" b="b"/>
              <a:pathLst>
                <a:path w="113" h="261">
                  <a:moveTo>
                    <a:pt x="19" y="0"/>
                  </a:moveTo>
                  <a:lnTo>
                    <a:pt x="0" y="257"/>
                  </a:lnTo>
                  <a:lnTo>
                    <a:pt x="82" y="261"/>
                  </a:lnTo>
                  <a:lnTo>
                    <a:pt x="113" y="236"/>
                  </a:lnTo>
                  <a:lnTo>
                    <a:pt x="69" y="232"/>
                  </a:lnTo>
                  <a:lnTo>
                    <a:pt x="94" y="187"/>
                  </a:lnTo>
                  <a:lnTo>
                    <a:pt x="42" y="207"/>
                  </a:lnTo>
                  <a:lnTo>
                    <a:pt x="103" y="107"/>
                  </a:lnTo>
                  <a:lnTo>
                    <a:pt x="42" y="124"/>
                  </a:lnTo>
                  <a:lnTo>
                    <a:pt x="94" y="50"/>
                  </a:lnTo>
                  <a:lnTo>
                    <a:pt x="50" y="54"/>
                  </a:lnTo>
                  <a:lnTo>
                    <a:pt x="80" y="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40480" y="2595240"/>
              <a:ext cx="50040" cy="183240"/>
            </a:xfrm>
            <a:custGeom>
              <a:avLst/>
              <a:gdLst/>
              <a:ahLst/>
              <a:rect l="l" t="t" r="r" b="b"/>
              <a:pathLst>
                <a:path w="128" h="462">
                  <a:moveTo>
                    <a:pt x="92" y="0"/>
                  </a:moveTo>
                  <a:lnTo>
                    <a:pt x="4" y="80"/>
                  </a:lnTo>
                  <a:lnTo>
                    <a:pt x="0" y="462"/>
                  </a:lnTo>
                  <a:lnTo>
                    <a:pt x="90" y="462"/>
                  </a:lnTo>
                  <a:lnTo>
                    <a:pt x="124" y="422"/>
                  </a:lnTo>
                  <a:lnTo>
                    <a:pt x="63" y="436"/>
                  </a:lnTo>
                  <a:lnTo>
                    <a:pt x="120" y="346"/>
                  </a:lnTo>
                  <a:lnTo>
                    <a:pt x="63" y="361"/>
                  </a:lnTo>
                  <a:lnTo>
                    <a:pt x="122" y="268"/>
                  </a:lnTo>
                  <a:lnTo>
                    <a:pt x="52" y="276"/>
                  </a:lnTo>
                  <a:lnTo>
                    <a:pt x="128" y="151"/>
                  </a:lnTo>
                  <a:lnTo>
                    <a:pt x="52" y="175"/>
                  </a:lnTo>
                  <a:lnTo>
                    <a:pt x="122" y="90"/>
                  </a:lnTo>
                  <a:lnTo>
                    <a:pt x="59" y="107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38320" y="2839680"/>
              <a:ext cx="64800" cy="10224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3" y="10"/>
                  </a:moveTo>
                  <a:lnTo>
                    <a:pt x="0" y="253"/>
                  </a:lnTo>
                  <a:lnTo>
                    <a:pt x="129" y="259"/>
                  </a:lnTo>
                  <a:lnTo>
                    <a:pt x="163" y="217"/>
                  </a:lnTo>
                  <a:lnTo>
                    <a:pt x="58" y="211"/>
                  </a:lnTo>
                  <a:lnTo>
                    <a:pt x="135" y="101"/>
                  </a:lnTo>
                  <a:lnTo>
                    <a:pt x="62" y="118"/>
                  </a:lnTo>
                  <a:lnTo>
                    <a:pt x="133" y="21"/>
                  </a:lnTo>
                  <a:lnTo>
                    <a:pt x="55" y="46"/>
                  </a:lnTo>
                  <a:lnTo>
                    <a:pt x="64" y="0"/>
                  </a:lnTo>
                  <a:lnTo>
                    <a:pt x="3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63720" y="2315880"/>
              <a:ext cx="56880" cy="92520"/>
            </a:xfrm>
            <a:custGeom>
              <a:avLst/>
              <a:gdLst/>
              <a:ahLst/>
              <a:rect l="l" t="t" r="r" b="b"/>
              <a:pathLst>
                <a:path w="145" h="234">
                  <a:moveTo>
                    <a:pt x="0" y="222"/>
                  </a:moveTo>
                  <a:lnTo>
                    <a:pt x="78" y="234"/>
                  </a:lnTo>
                  <a:lnTo>
                    <a:pt x="145" y="0"/>
                  </a:lnTo>
                  <a:lnTo>
                    <a:pt x="63" y="40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47480" y="2465280"/>
              <a:ext cx="811080" cy="621720"/>
            </a:xfrm>
            <a:custGeom>
              <a:avLst/>
              <a:gdLst/>
              <a:ahLst/>
              <a:rect l="l" t="t" r="r" b="b"/>
              <a:pathLst>
                <a:path w="2044" h="1569">
                  <a:moveTo>
                    <a:pt x="215" y="52"/>
                  </a:moveTo>
                  <a:lnTo>
                    <a:pt x="149" y="0"/>
                  </a:lnTo>
                  <a:lnTo>
                    <a:pt x="145" y="44"/>
                  </a:lnTo>
                  <a:lnTo>
                    <a:pt x="133" y="149"/>
                  </a:lnTo>
                  <a:lnTo>
                    <a:pt x="118" y="274"/>
                  </a:lnTo>
                  <a:lnTo>
                    <a:pt x="103" y="384"/>
                  </a:lnTo>
                  <a:lnTo>
                    <a:pt x="80" y="590"/>
                  </a:lnTo>
                  <a:lnTo>
                    <a:pt x="69" y="814"/>
                  </a:lnTo>
                  <a:lnTo>
                    <a:pt x="65" y="894"/>
                  </a:lnTo>
                  <a:lnTo>
                    <a:pt x="55" y="938"/>
                  </a:lnTo>
                  <a:lnTo>
                    <a:pt x="33" y="1012"/>
                  </a:lnTo>
                  <a:lnTo>
                    <a:pt x="21" y="1074"/>
                  </a:lnTo>
                  <a:lnTo>
                    <a:pt x="10" y="1137"/>
                  </a:lnTo>
                  <a:lnTo>
                    <a:pt x="0" y="1202"/>
                  </a:lnTo>
                  <a:lnTo>
                    <a:pt x="63" y="1206"/>
                  </a:lnTo>
                  <a:lnTo>
                    <a:pt x="33" y="1251"/>
                  </a:lnTo>
                  <a:lnTo>
                    <a:pt x="52" y="1259"/>
                  </a:lnTo>
                  <a:lnTo>
                    <a:pt x="78" y="1268"/>
                  </a:lnTo>
                  <a:lnTo>
                    <a:pt x="114" y="1278"/>
                  </a:lnTo>
                  <a:lnTo>
                    <a:pt x="137" y="1283"/>
                  </a:lnTo>
                  <a:lnTo>
                    <a:pt x="164" y="1291"/>
                  </a:lnTo>
                  <a:lnTo>
                    <a:pt x="194" y="1297"/>
                  </a:lnTo>
                  <a:lnTo>
                    <a:pt x="228" y="1304"/>
                  </a:lnTo>
                  <a:lnTo>
                    <a:pt x="266" y="1312"/>
                  </a:lnTo>
                  <a:lnTo>
                    <a:pt x="306" y="1320"/>
                  </a:lnTo>
                  <a:lnTo>
                    <a:pt x="352" y="1327"/>
                  </a:lnTo>
                  <a:lnTo>
                    <a:pt x="401" y="1333"/>
                  </a:lnTo>
                  <a:lnTo>
                    <a:pt x="418" y="1359"/>
                  </a:lnTo>
                  <a:lnTo>
                    <a:pt x="434" y="1380"/>
                  </a:lnTo>
                  <a:lnTo>
                    <a:pt x="451" y="1399"/>
                  </a:lnTo>
                  <a:lnTo>
                    <a:pt x="420" y="1439"/>
                  </a:lnTo>
                  <a:lnTo>
                    <a:pt x="401" y="1474"/>
                  </a:lnTo>
                  <a:lnTo>
                    <a:pt x="375" y="1569"/>
                  </a:lnTo>
                  <a:lnTo>
                    <a:pt x="398" y="1536"/>
                  </a:lnTo>
                  <a:lnTo>
                    <a:pt x="422" y="1508"/>
                  </a:lnTo>
                  <a:lnTo>
                    <a:pt x="447" y="1483"/>
                  </a:lnTo>
                  <a:lnTo>
                    <a:pt x="472" y="1462"/>
                  </a:lnTo>
                  <a:lnTo>
                    <a:pt x="483" y="1453"/>
                  </a:lnTo>
                  <a:lnTo>
                    <a:pt x="496" y="1443"/>
                  </a:lnTo>
                  <a:lnTo>
                    <a:pt x="510" y="1436"/>
                  </a:lnTo>
                  <a:lnTo>
                    <a:pt x="523" y="1428"/>
                  </a:lnTo>
                  <a:lnTo>
                    <a:pt x="536" y="1420"/>
                  </a:lnTo>
                  <a:lnTo>
                    <a:pt x="550" y="1415"/>
                  </a:lnTo>
                  <a:lnTo>
                    <a:pt x="576" y="1403"/>
                  </a:lnTo>
                  <a:lnTo>
                    <a:pt x="605" y="1396"/>
                  </a:lnTo>
                  <a:lnTo>
                    <a:pt x="631" y="1388"/>
                  </a:lnTo>
                  <a:lnTo>
                    <a:pt x="688" y="1380"/>
                  </a:lnTo>
                  <a:lnTo>
                    <a:pt x="801" y="1377"/>
                  </a:lnTo>
                  <a:lnTo>
                    <a:pt x="897" y="1384"/>
                  </a:lnTo>
                  <a:lnTo>
                    <a:pt x="985" y="1392"/>
                  </a:lnTo>
                  <a:lnTo>
                    <a:pt x="1063" y="1398"/>
                  </a:lnTo>
                  <a:lnTo>
                    <a:pt x="1133" y="1405"/>
                  </a:lnTo>
                  <a:lnTo>
                    <a:pt x="1251" y="1417"/>
                  </a:lnTo>
                  <a:lnTo>
                    <a:pt x="1346" y="1428"/>
                  </a:lnTo>
                  <a:lnTo>
                    <a:pt x="1426" y="1437"/>
                  </a:lnTo>
                  <a:lnTo>
                    <a:pt x="1498" y="1445"/>
                  </a:lnTo>
                  <a:lnTo>
                    <a:pt x="1567" y="1451"/>
                  </a:lnTo>
                  <a:lnTo>
                    <a:pt x="1641" y="1453"/>
                  </a:lnTo>
                  <a:lnTo>
                    <a:pt x="1795" y="1451"/>
                  </a:lnTo>
                  <a:lnTo>
                    <a:pt x="1922" y="1436"/>
                  </a:lnTo>
                  <a:lnTo>
                    <a:pt x="1973" y="1428"/>
                  </a:lnTo>
                  <a:lnTo>
                    <a:pt x="2011" y="1420"/>
                  </a:lnTo>
                  <a:lnTo>
                    <a:pt x="2044" y="1415"/>
                  </a:lnTo>
                  <a:lnTo>
                    <a:pt x="1924" y="1401"/>
                  </a:lnTo>
                  <a:lnTo>
                    <a:pt x="1840" y="1390"/>
                  </a:lnTo>
                  <a:lnTo>
                    <a:pt x="1787" y="1384"/>
                  </a:lnTo>
                  <a:lnTo>
                    <a:pt x="1726" y="1377"/>
                  </a:lnTo>
                  <a:lnTo>
                    <a:pt x="1658" y="1367"/>
                  </a:lnTo>
                  <a:lnTo>
                    <a:pt x="1580" y="1358"/>
                  </a:lnTo>
                  <a:lnTo>
                    <a:pt x="1492" y="1344"/>
                  </a:lnTo>
                  <a:lnTo>
                    <a:pt x="1445" y="1339"/>
                  </a:lnTo>
                  <a:lnTo>
                    <a:pt x="1394" y="1331"/>
                  </a:lnTo>
                  <a:lnTo>
                    <a:pt x="1344" y="1323"/>
                  </a:lnTo>
                  <a:lnTo>
                    <a:pt x="1299" y="1318"/>
                  </a:lnTo>
                  <a:lnTo>
                    <a:pt x="1213" y="1306"/>
                  </a:lnTo>
                  <a:lnTo>
                    <a:pt x="1139" y="1295"/>
                  </a:lnTo>
                  <a:lnTo>
                    <a:pt x="1074" y="1285"/>
                  </a:lnTo>
                  <a:lnTo>
                    <a:pt x="1017" y="1278"/>
                  </a:lnTo>
                  <a:lnTo>
                    <a:pt x="966" y="1270"/>
                  </a:lnTo>
                  <a:lnTo>
                    <a:pt x="920" y="1263"/>
                  </a:lnTo>
                  <a:lnTo>
                    <a:pt x="878" y="1257"/>
                  </a:lnTo>
                  <a:lnTo>
                    <a:pt x="802" y="1245"/>
                  </a:lnTo>
                  <a:lnTo>
                    <a:pt x="724" y="1234"/>
                  </a:lnTo>
                  <a:lnTo>
                    <a:pt x="637" y="1223"/>
                  </a:lnTo>
                  <a:lnTo>
                    <a:pt x="586" y="1217"/>
                  </a:lnTo>
                  <a:lnTo>
                    <a:pt x="527" y="1209"/>
                  </a:lnTo>
                  <a:lnTo>
                    <a:pt x="194" y="1169"/>
                  </a:lnTo>
                  <a:lnTo>
                    <a:pt x="181" y="631"/>
                  </a:lnTo>
                  <a:lnTo>
                    <a:pt x="190" y="363"/>
                  </a:lnTo>
                  <a:lnTo>
                    <a:pt x="202" y="185"/>
                  </a:lnTo>
                  <a:lnTo>
                    <a:pt x="215" y="52"/>
                  </a:lnTo>
                  <a:lnTo>
                    <a:pt x="21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296200" y="3034080"/>
              <a:ext cx="61200" cy="6012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0" y="5"/>
                  </a:moveTo>
                  <a:lnTo>
                    <a:pt x="15" y="9"/>
                  </a:lnTo>
                  <a:lnTo>
                    <a:pt x="32" y="17"/>
                  </a:lnTo>
                  <a:lnTo>
                    <a:pt x="50" y="30"/>
                  </a:lnTo>
                  <a:lnTo>
                    <a:pt x="82" y="74"/>
                  </a:lnTo>
                  <a:lnTo>
                    <a:pt x="91" y="152"/>
                  </a:lnTo>
                  <a:lnTo>
                    <a:pt x="154" y="112"/>
                  </a:lnTo>
                  <a:lnTo>
                    <a:pt x="15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24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Implementation of the Web-based Environment</a:t>
            </a:r>
            <a:r>
              <a:rPr b="1" lang="en-US" sz="43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quirem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latform independence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istributed component-based simulation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upporting collaborative  development and execution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3962520"/>
            <a:ext cx="8763120" cy="18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66"/>
                </a:solidFill>
                <a:latin typeface="Arial"/>
              </a:rPr>
              <a:t>Chosen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Java programming language for the feder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Java applets and servlets for setting up the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LA and the RTI as architecture for the distributed component-based sim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99"/>
                </a:solidFill>
                <a:latin typeface="Times New Roman"/>
              </a:rPr>
              <a:t>Methods and Communication in the Environment</a:t>
            </a:r>
            <a:endParaRPr b="0" lang="en-US" sz="35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ow does the communication between the federation and client work?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Applet – Servlet / Server – Federation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050920" y="3789360"/>
            <a:ext cx="5351760" cy="2058840"/>
            <a:chOff x="2050920" y="3789360"/>
            <a:chExt cx="5351760" cy="205884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2583000" y="3954600"/>
              <a:ext cx="4288320" cy="17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050920" y="3789360"/>
              <a:ext cx="5351760" cy="20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Summary: </a:t>
            </a: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Benefits of Net-based M&amp;S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creased reusability of simulation models and program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creased collaboration between developers and end-users, thus improved quality and usabilit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mproved accessibility via WWW and thus improved VV&amp;A of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creased utilization of available resources (processors, memory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creased computation power and increased scalability, thus better fault-toleranc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Times New Roman"/>
              </a:rPr>
              <a:t>Main characteristics of NetMas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b-bas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mponent-bas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llaborativ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LA complia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y Web-based  M&amp;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enefits of Collaborative M&amp;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llaborative model development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llaborative model execu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enefits of component-based M&amp;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Using HLA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ummary and conclus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y net-based M&amp;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riving factor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henomenal growth in the WWW and related technolog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tential gains of combining M&amp;S and WWW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velopments within M&amp;S (e.g. DS)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cent developments and trends within defence organizations, e.g., net centric warfar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velopments within entertainment industr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Advantages of Net-based M&amp;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9000"/>
            <a:ext cx="6096240" cy="36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fficient development and utilization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f simulation models and computing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resources by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ubstantially reducing the time needed for development and execution of models.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ing the quality, military worth and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upportability of models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nabling an integrated product and process development (IPPD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629400" y="2057400"/>
            <a:ext cx="22636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Why Collaborative M&amp;S?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llaboration: Two or more people collaborate to develop and/or execute a mod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y collaboration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66"/>
                </a:solidFill>
                <a:latin typeface="Arial"/>
              </a:rPr>
              <a:t>More comprehensive work (developers, analysts, customers…)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66"/>
                </a:solidFill>
                <a:latin typeface="Arial"/>
              </a:rPr>
              <a:t>Training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66"/>
                </a:solidFill>
                <a:latin typeface="Arial"/>
              </a:rPr>
              <a:t>Facilitates the VV&amp;A process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Different kinds of collaboration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synchronous collabor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-mail, server-centric downloading etc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ynchronous: </a:t>
            </a: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nline human-to-human M&amp;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velopment – Idea sharing, model development, documentation etc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cution – Synchronous execution particip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niBW Muenchen</cp:lastModifiedBy>
  <dcterms:modified xsi:type="dcterms:W3CDTF">2002-10-09T16:16:32Z</dcterms:modified>
  <cp:revision>81</cp:revision>
  <dc:subject/>
  <dc:title>PowerPoint Presentation</dc:title>
</cp:coreProperties>
</file>