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FB255-E1AB-4F39-9BDF-AF2E4C478F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828600"/>
            <a:ext cx="7848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72825-244A-442E-89ED-66DA07B2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3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1400" y="1599840"/>
            <a:ext cx="383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828600"/>
            <a:ext cx="383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1400" y="3828600"/>
            <a:ext cx="383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3BA71-6885-4318-8886-DE5A9826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27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3400" y="1599840"/>
            <a:ext cx="2527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17320" y="1599840"/>
            <a:ext cx="2527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828600"/>
            <a:ext cx="2527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3400" y="3828600"/>
            <a:ext cx="2527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17320" y="3828600"/>
            <a:ext cx="2527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7FA4E-C360-45CA-A8F1-0E6C739FA6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4417E-9730-4926-A113-987EDA23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0ECAD-105B-45D0-AB3D-A33627AE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3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1400" y="1599840"/>
            <a:ext cx="383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31196-DB60-4E2C-A396-9FEAA1CB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9D501-3D5A-463C-94DE-FDFE67CCE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7848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5A52F-02E5-4922-9AA2-A765CB12E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3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1400" y="1599840"/>
            <a:ext cx="383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828600"/>
            <a:ext cx="383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C12A7-151C-40A4-88DA-792F023F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3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1400" y="1599840"/>
            <a:ext cx="383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1400" y="3828600"/>
            <a:ext cx="383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C3AF4-B268-41C4-AC95-4E2FE18C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3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1400" y="1599840"/>
            <a:ext cx="383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828600"/>
            <a:ext cx="7848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06DAC-9CBB-4AED-8ACB-C66F301D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6019920"/>
            <a:ext cx="7834320" cy="2880"/>
          </a:xfrm>
          <a:custGeom>
            <a:avLst/>
            <a:gdLst/>
            <a:ahLst/>
            <a:rect l="l" t="t" r="r" b="b"/>
            <a:pathLst>
              <a:path w="4935" h="2">
                <a:moveTo>
                  <a:pt x="0" y="2"/>
                </a:moveTo>
                <a:lnTo>
                  <a:pt x="4935" y="0"/>
                </a:ln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609480" y="6095880"/>
          <a:ext cx="520920" cy="533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6095880"/>
                    <a:ext cx="5209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6705360" y="609588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881C-CAA3-4155-A6CB-59F771D05A7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609480" y="15998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3733920" y="617220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TIS e.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81280" y="5973840"/>
            <a:ext cx="213372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ITIS_logo_light" descr=""/>
          <p:cNvPicPr/>
          <p:nvPr/>
        </p:nvPicPr>
        <p:blipFill>
          <a:blip r:embed="rId4"/>
          <a:stretch/>
        </p:blipFill>
        <p:spPr>
          <a:xfrm>
            <a:off x="7696080" y="6095880"/>
            <a:ext cx="762120" cy="48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8000"/>
                </a:solidFill>
                <a:latin typeface="Arial"/>
              </a:rPr>
              <a:t>Institut für Technik Intelligenter Systeme e.V.</a:t>
            </a:r>
            <a:br>
              <a:rPr sz="2800"/>
            </a:br>
            <a:r>
              <a:rPr b="0" lang="de-DE" sz="2800" spc="-1" strike="noStrike">
                <a:solidFill>
                  <a:srgbClr val="008000"/>
                </a:solidFill>
                <a:latin typeface="Arial"/>
              </a:rPr>
              <a:t>an der Universität der Bundeswehr München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66688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gründet am 30. März 19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Als </a:t>
            </a:r>
            <a:r>
              <a:rPr b="0" lang="de-DE" sz="2400" spc="-1" strike="noStrike" u="sng">
                <a:solidFill>
                  <a:srgbClr val="3333cc"/>
                </a:solidFill>
                <a:uFillTx/>
                <a:latin typeface="Arial"/>
              </a:rPr>
              <a:t>An-Institut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 vom Träger der Universität der Bundeswehr genehmigt am 18. Januar 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m Finanzamt für Körperschaften, München, als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gemeinnützi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nerkan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TIS_logo_light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2286000" cy="146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776EF-A134-47A9-BFCD-E100050D097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5A5569C-C4A0-4361-863E-83FA370D79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3333cc"/>
                </a:solidFill>
                <a:latin typeface="Arial"/>
              </a:rPr>
              <a:t>Ziele von ITIS: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örderung von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Wissenschaft und Forschu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uf dem Gebiet der Technik intelligenter Syst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Unterstützung und Abwicklung </a:t>
            </a:r>
            <a:r>
              <a:rPr b="0" lang="de-DE" sz="2400" spc="-1" strike="noStrike" u="sng">
                <a:solidFill>
                  <a:srgbClr val="3333cc"/>
                </a:solidFill>
                <a:uFillTx/>
                <a:latin typeface="Arial"/>
              </a:rPr>
              <a:t>interdisziplinär angelegter Forschungsprojekte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 an der Universität der Bundeswe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Förderung von Lehre und Studium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insbesondere im Rahmen von Studien- Diplom- und Doktorarbe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Förderung des </a:t>
            </a:r>
            <a:r>
              <a:rPr b="0" lang="de-DE" sz="2400" spc="-1" strike="noStrike" u="sng">
                <a:solidFill>
                  <a:srgbClr val="3333cc"/>
                </a:solidFill>
                <a:uFillTx/>
                <a:latin typeface="Arial"/>
              </a:rPr>
              <a:t>Wissens- und Technologietransfers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 zur Industrie und Politik (im Auftrag der UniBw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örderung von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Unternehmensgründung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„start-ups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5AFA3-1C77-4F68-AFB6-CC76D41C92C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6487DA1-EE5C-433C-A619-5BF3BD960C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3333cc"/>
                </a:solidFill>
                <a:latin typeface="Arial"/>
              </a:rPr>
              <a:t>Struktur von ITIS: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676520"/>
            <a:ext cx="7848720" cy="2743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33920" y="3200400"/>
            <a:ext cx="16002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st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1981080"/>
            <a:ext cx="16002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glieder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samm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981080"/>
            <a:ext cx="16002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08080"/>
                </a:solidFill>
                <a:latin typeface="Arial"/>
              </a:rPr>
              <a:t>Kurator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08080"/>
                </a:solidFill>
                <a:latin typeface="Arial"/>
              </a:rPr>
              <a:t>(in Planu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3200400"/>
            <a:ext cx="16002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r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5880" y="3200400"/>
            <a:ext cx="160020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chäfts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h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ssisten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2"/>
            <a:endCxn id="52" idx="0"/>
          </p:cNvCxnSpPr>
          <p:nvPr/>
        </p:nvCxnSpPr>
        <p:spPr>
          <a:xfrm>
            <a:off x="4533480" y="2743200"/>
            <a:ext cx="1080" cy="4579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8" name=""/>
          <p:cNvCxnSpPr>
            <a:stCxn id="55" idx="3"/>
            <a:endCxn id="52" idx="1"/>
          </p:cNvCxnSpPr>
          <p:nvPr/>
        </p:nvCxnSpPr>
        <p:spPr>
          <a:xfrm>
            <a:off x="2666880" y="3580920"/>
            <a:ext cx="10677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52" idx="3"/>
            <a:endCxn id="56" idx="1"/>
          </p:cNvCxnSpPr>
          <p:nvPr/>
        </p:nvCxnSpPr>
        <p:spPr>
          <a:xfrm>
            <a:off x="5334120" y="3581280"/>
            <a:ext cx="762480" cy="115200"/>
          </a:xfrm>
          <a:prstGeom prst="bentConnector3">
            <a:avLst>
              <a:gd name="adj1" fmla="val 49976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54" idx="3"/>
            <a:endCxn id="53" idx="1"/>
          </p:cNvCxnSpPr>
          <p:nvPr/>
        </p:nvCxnSpPr>
        <p:spPr>
          <a:xfrm>
            <a:off x="2666880" y="2361960"/>
            <a:ext cx="106776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61" name=""/>
          <p:cNvCxnSpPr>
            <a:stCxn id="54" idx="3"/>
            <a:endCxn id="52" idx="1"/>
          </p:cNvCxnSpPr>
          <p:nvPr/>
        </p:nvCxnSpPr>
        <p:spPr>
          <a:xfrm>
            <a:off x="2666880" y="2362320"/>
            <a:ext cx="1067760" cy="12196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62" name=""/>
          <p:cNvSpPr/>
          <p:nvPr/>
        </p:nvSpPr>
        <p:spPr>
          <a:xfrm>
            <a:off x="6095880" y="38862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5105520"/>
            <a:ext cx="1447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dellbil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23520" y="220968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rgan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29600" y="464832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rschungsberei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5105520"/>
            <a:ext cx="1447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schäfts-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zesse 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tomatisi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76920" y="5105520"/>
            <a:ext cx="14475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krosystem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chn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5105520"/>
            <a:ext cx="1447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Arial"/>
              </a:rPr>
              <a:t>weitere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52" idx="2"/>
            <a:endCxn id="63" idx="0"/>
          </p:cNvCxnSpPr>
          <p:nvPr/>
        </p:nvCxnSpPr>
        <p:spPr>
          <a:xfrm rot="5400000">
            <a:off x="2590200" y="3162240"/>
            <a:ext cx="1143720" cy="27439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70" name=""/>
          <p:cNvCxnSpPr>
            <a:stCxn id="52" idx="2"/>
            <a:endCxn id="66" idx="0"/>
          </p:cNvCxnSpPr>
          <p:nvPr/>
        </p:nvCxnSpPr>
        <p:spPr>
          <a:xfrm rot="5400000">
            <a:off x="3542760" y="4114800"/>
            <a:ext cx="1143720" cy="83880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71" name=""/>
          <p:cNvCxnSpPr>
            <a:stCxn id="52" idx="2"/>
            <a:endCxn id="67" idx="0"/>
          </p:cNvCxnSpPr>
          <p:nvPr/>
        </p:nvCxnSpPr>
        <p:spPr>
          <a:xfrm flipH="1" rot="16200000">
            <a:off x="4495680" y="3999960"/>
            <a:ext cx="1143720" cy="106776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72" name=""/>
          <p:cNvCxnSpPr>
            <a:stCxn id="52" idx="2"/>
            <a:endCxn id="68" idx="0"/>
          </p:cNvCxnSpPr>
          <p:nvPr/>
        </p:nvCxnSpPr>
        <p:spPr>
          <a:xfrm flipH="1" rot="16200000">
            <a:off x="5447160" y="3047760"/>
            <a:ext cx="1143720" cy="29725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EE470-42C5-48DE-A63A-9E878C5070BA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549E39D-23EF-4B18-9E72-D69FE81558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3333cc"/>
                </a:solidFill>
                <a:latin typeface="Arial"/>
              </a:rPr>
              <a:t>Forschungsbereich </a:t>
            </a:r>
            <a:br>
              <a:rPr sz="3000"/>
            </a:br>
            <a:r>
              <a:rPr b="1" lang="de-DE" sz="3000" spc="-1" strike="noStrike">
                <a:solidFill>
                  <a:srgbClr val="3333cc"/>
                </a:solidFill>
                <a:latin typeface="Arial"/>
              </a:rPr>
              <a:t>Modellbildung und Simulation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gewählte aktuelle Projek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kunftsfelder der Modellbildung und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Dokumentation von Simulationssyst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uman Factors in militärischen Führungsprozessen für die Simu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Wiederverwendung von Modulen in Simulationssyst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ifikation, Validierung und Akkreditierung von Simulationsmodellen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Standardisierung Führungsautomaten H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ssessment of Command and Control in Operations Other Than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Komponentenbasierter Modellentwu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istungssteigerung mittels paralleler und verteilter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31D7D-594B-4AB5-8D53-B8845D9831D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3D982E4-994C-4CEF-9E16-918A0C7980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3333cc"/>
                </a:solidFill>
                <a:latin typeface="Arial"/>
              </a:rPr>
              <a:t>Forschungsbereich </a:t>
            </a:r>
            <a:br>
              <a:rPr sz="3000"/>
            </a:br>
            <a:r>
              <a:rPr b="1" lang="de-DE" sz="3000" spc="-1" strike="noStrike">
                <a:solidFill>
                  <a:srgbClr val="3333cc"/>
                </a:solidFill>
                <a:latin typeface="Arial"/>
              </a:rPr>
              <a:t>Modellbildung und Simulation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anstaltu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1. Workshop „Perspektiven der Modellbidlung und Simulation“, UniBwM, 10.-11.07.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inar für Führungskräfte: „Stand und Perspektiven der Modellbildung und Simulation im Bereich der Streitkräfte“, AStudÜbBw, Waldbröl, 29.-30.05.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Seminar für Führungskräfte: „Modellbildung und Simulation (M&amp;S) für Gestaltung und Einsatz moderner Streitkräfte“, ZASBw, Waldbröl, 18.-19.06.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F215A-B18B-4969-88DF-BE96BDD96BD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47C49BE-04EB-4684-A511-BD1FAE9950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3333cc"/>
                </a:solidFill>
                <a:latin typeface="Arial"/>
              </a:rPr>
              <a:t>Technologietransfer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58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it dem 1. Juli 2000 an ITIS übertra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Organisation und Abwicklung des Wissens- und Technologietransfers zwischen UniBwM, Wirtschaft und staatlichen Institu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8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.a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kquisition/Vermittlung von externen transfer-interessierten Partnern zu Professoren/Instituten der UniBw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tretung der UniBwM in allen Bereichen gemeinsamer Erwartungen und in der Vernetzung mit anderen Transferstellen nach Maßgabe ihrer Wichtigkeit und Effizi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Öffentlichkeitsarb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72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05E15-3615-4F85-B7C0-9679A85F619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1682467-0C69-4EB4-B517-84BDCFA8F8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3333cc"/>
                </a:solidFill>
                <a:latin typeface="Arial"/>
              </a:rPr>
              <a:t>Ziele des Workshops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hemenschwerpunk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mponentenbasierte M&amp;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"/>
              </a:rPr>
              <a:t>M&amp;S im militärischen und industriellen Umf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teilte Simulation mittels H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"/>
              </a:rPr>
              <a:t>M&amp;S in der Ausbild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V&amp;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"/>
              </a:rPr>
              <a:t>Diskussionen und Gesprä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59380-74EB-42D9-976E-2666B7168F7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2DC494A-7DE7-460A-B592-E9BDD013FF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3333cc"/>
                </a:solidFill>
                <a:latin typeface="Arial"/>
              </a:rPr>
              <a:t>Organisatorisches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90512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agungsbüro im Foy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90512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hr- und Flugplä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90512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TIS-Berichte zur Ans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90512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gabe des Fragebo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90512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"/>
              </a:rPr>
              <a:t>Bestellung der Workshop-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90512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meinsames Abende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90512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"/>
              </a:rPr>
              <a:t>Bustransfers zum Hotel/Bahnh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90512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heute nach Abendessen (ca. 21.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90512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morgen: 8.30 ab Ho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13.30 nach Ende des Worksh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190512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190512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BF78B-01B3-417F-9D85-4E408FD13B1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06422C9-71E8-4383-BED8-7771525FA94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6T09:46:56Z</dcterms:created>
  <dc:creator>Dirk Brade</dc:creator>
  <dc:description/>
  <dc:language>en-US</dc:language>
  <cp:lastModifiedBy>Inf4</cp:lastModifiedBy>
  <cp:lastPrinted>2001-05-15T08:53:17Z</cp:lastPrinted>
  <dcterms:modified xsi:type="dcterms:W3CDTF">2002-10-08T08:43:20Z</dcterms:modified>
  <cp:revision>58</cp:revision>
  <dc:subject/>
  <dc:title>Kein Folientitel</dc:title>
</cp:coreProperties>
</file>