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468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2189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468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1400" y="36468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3400" y="12189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7320" y="12189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468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3400" y="36468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7320" y="36468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1400" y="12189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2189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468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2189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1400" y="36468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2189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468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172200"/>
            <a:ext cx="746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ität der Bundeswehr München, 09./10. Okto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019920"/>
            <a:ext cx="7848720" cy="74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797040" cy="795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3029040" y="1790640"/>
            <a:ext cx="3066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2. Worksho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938160" y="2590920"/>
            <a:ext cx="7215120" cy="297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6480" y="240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38160" y="28224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ktiven der Modell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d Simulation (M&amp;S)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f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Simulation (M&amp;S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447920" y="609480"/>
          <a:ext cx="103824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609480"/>
                    <a:ext cx="10382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00400" y="723960"/>
            <a:ext cx="2871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nstitut für Technische Informat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nstitut für Technik Intelligenter Systeme e.V. (ITI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n der Universität der  Bundeswehr Mün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Programm am 9. Oktober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48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30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grüßung und Einführu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kan (Fakultät für Informatik, UniBwM)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TIS-Vorst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15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mponentenbasierte M&amp;S</a:t>
            </a:r>
            <a:br>
              <a:rPr sz="1400"/>
            </a:b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imulation Model Development using Building Block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A. Verbraeck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TU Delft, Niederlande)</a:t>
            </a:r>
            <a:br>
              <a:rPr sz="1400"/>
            </a:b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Komponentenbasierte Modellentwicklung und Simulati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M. Hofmann (IT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15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09800" y="1218960"/>
            <a:ext cx="3848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45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&amp;S im militärischen und industriellen Umfeld</a:t>
            </a:r>
            <a:br>
              <a:rPr sz="1400"/>
            </a:b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&amp;S für die Bundeswehr unter besonderer Berücksichtigung des erweiterten Aufgabenspektrums: Grundlage einer Entwicklungs-strateg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Huber (UniBwM/ITIS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&amp;S in der Logistik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A. Wenzel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Fraunhofer-Institut für Materialfluss und Logistik, Dortmund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0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e des 1. Workshop-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8.3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meinsames Abendessen im Uni-Cas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Programm am 10. Oktober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848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09.00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mulation mittels HLA</a:t>
            </a:r>
            <a:br>
              <a:rPr sz="1400"/>
            </a:b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et-Based Collaborative Simulati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Ayani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oyal Institute of Technology, Kista, Schweden)</a:t>
            </a:r>
            <a:br>
              <a:rPr sz="1400"/>
            </a:b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ramework für die fehlertolerante verteilte Simulation mit der HLA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J. Lüthi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FHS Kufstein, Österrei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15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&amp;S in der Ausbildung</a:t>
            </a:r>
            <a:br>
              <a:rPr sz="1400"/>
            </a:b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ASTER - ein interdisziplinäres Projekt zur Demonstration moderner Simulatortechnologi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W. Waldraff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. Finsterwalder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UniBwM/ITIS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45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9800" y="1218960"/>
            <a:ext cx="3848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15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&amp;S-Verifikation, Validierung und Akkreditierung (VV&amp;A)</a:t>
            </a:r>
            <a:br>
              <a:rPr sz="1400"/>
            </a:b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umans in the Aircraft - Humans in the Model, which Performance is Correct?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. Maguir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QuinetiQ, Boscombe Down, UK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alitätssicherungsmaßnahmen während der Phasen der Modell-entwicklu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Brade (ITIS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3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chlussdiskussion</a:t>
            </a: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&amp;S - Perspektiven aus akademischer, industrieller und militärischer Si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3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e des Work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2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16:00:43Z</dcterms:created>
  <dc:creator>Dirk Brade</dc:creator>
  <dc:description/>
  <dc:language>en-US</dc:language>
  <cp:lastModifiedBy>Inf4</cp:lastModifiedBy>
  <cp:lastPrinted>2001-05-21T10:38:13Z</cp:lastPrinted>
  <dcterms:modified xsi:type="dcterms:W3CDTF">2002-10-02T15:56:06Z</dcterms:modified>
  <cp:revision>206</cp:revision>
  <dc:subject/>
  <dc:title>Dependencies of Processes</dc:title>
</cp:coreProperties>
</file>